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7A65D-E59D-434B-9E89-1701F9B04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BC9A0-DF9F-48D8-BA20-FA26BC93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B98F7-64BA-4527-B07D-8D4A5557A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DB4EA-E67C-412C-871F-F0448FF5A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4355D-7923-4144-92A9-4D23A1F5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888E2-09B5-4685-A904-37AC3127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2514A-4AE2-44B1-8F28-9046AA03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5A954-45BF-4D6A-AAED-50AD5622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8FAAB-7BB2-42AB-AF20-EE10BF39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DD578-972D-4463-A805-D6FAF14B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ECDD1-5DD3-435E-9CEC-C9ECB0F8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C44C2-6769-44A7-A432-676AAC8B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572320" y="6477120"/>
            <a:ext cx="94284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9527760" y="6382800"/>
            <a:ext cx="4366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0272-6A5F-49A9-BA82-3361FCF64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47680" y="6259680"/>
            <a:ext cx="1390680" cy="425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630360" y="6480000"/>
            <a:ext cx="550800" cy="2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735760" y="5310000"/>
            <a:ext cx="282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1999, J.H.Waterborg, UMK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2960" y="356760"/>
            <a:ext cx="8744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Acetylation at Promo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70360" y="1498680"/>
            <a:ext cx="1980360" cy="7023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ranscrip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29120" y="1744560"/>
            <a:ext cx="24894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Thyroid Hormone Recep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xample of DNA-bi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ranscription F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5330880" y="1503360"/>
            <a:ext cx="4547520" cy="5396040"/>
            <a:chOff x="5330880" y="1503360"/>
            <a:chExt cx="4547520" cy="5396040"/>
          </a:xfrm>
        </p:grpSpPr>
        <p:sp>
          <p:nvSpPr>
            <p:cNvPr id="47" name=""/>
            <p:cNvSpPr/>
            <p:nvPr/>
          </p:nvSpPr>
          <p:spPr>
            <a:xfrm rot="480000">
              <a:off x="7137360" y="4608360"/>
              <a:ext cx="330120" cy="114480"/>
            </a:xfrm>
            <a:prstGeom prst="rightArrow">
              <a:avLst>
                <a:gd name="adj1" fmla="val 50000"/>
                <a:gd name="adj2" fmla="val 1441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4020000">
              <a:off x="8661240" y="4156200"/>
              <a:ext cx="304560" cy="48240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764400" y="3300480"/>
              <a:ext cx="1274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co-repress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7440000">
              <a:off x="8069040" y="4124160"/>
              <a:ext cx="304920" cy="48240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6175440" y="4181400"/>
              <a:ext cx="1563480" cy="1839960"/>
              <a:chOff x="6175440" y="4181400"/>
              <a:chExt cx="1563480" cy="183996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6175440" y="4181400"/>
                <a:ext cx="1563480" cy="1839960"/>
                <a:chOff x="6175440" y="4181400"/>
                <a:chExt cx="1563480" cy="183996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6186600" y="4181400"/>
                  <a:ext cx="834120" cy="175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52" y="15848"/>
                      </a:moveTo>
                      <a:arcTo wR="10800" hR="10800" stAng="9128189" swAng="122164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52" y="15848"/>
                      </a:moveTo>
                      <a:arcTo wR="10800" hR="10800" stAng="9128189" swAng="12216431"/>
                    </a:path>
                  </a:pathLst>
                </a:custGeom>
                <a:solidFill>
                  <a:srgbClr val="00cc99">
                    <a:alpha val="50000"/>
                  </a:srgbClr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6224760" y="4994280"/>
                  <a:ext cx="1514160" cy="851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399" y="20153"/>
                      </a:moveTo>
                      <a:arcTo wR="10800" hR="10800" stAng="7200259" swAng="915071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399" y="20153"/>
                      </a:moveTo>
                      <a:arcTo wR="10800" hR="10800" stAng="7200259" swAng="9150710"/>
                    </a:path>
                  </a:pathLst>
                </a:custGeom>
                <a:solidFill>
                  <a:srgbClr val="cccc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531120" y="4995720"/>
                  <a:ext cx="977400" cy="1025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96" y="16610"/>
                      </a:moveTo>
                      <a:arcTo wR="10800" hR="10800" stAng="8847356" swAng="73414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96" y="16610"/>
                      </a:moveTo>
                      <a:arcTo wR="10800" hR="10800" stAng="8847356" swAng="7341483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177240" y="4664160"/>
                  <a:ext cx="7794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AF 25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6435360" y="4762440"/>
                  <a:ext cx="255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I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 rot="18240000">
                  <a:off x="6180120" y="5271480"/>
                  <a:ext cx="4381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TBP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" name=""/>
              <p:cNvSpPr/>
              <p:nvPr/>
            </p:nvSpPr>
            <p:spPr>
              <a:xfrm>
                <a:off x="6297480" y="4484880"/>
                <a:ext cx="625320" cy="18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106835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106835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418440" y="4276800"/>
                <a:ext cx="239760" cy="735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776763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776763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567840" y="4276800"/>
                <a:ext cx="248400" cy="73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821" y="2558"/>
                    </a:moveTo>
                    <a:arcTo wR="10800" hR="10800" stAng="-7815428" swAng="781542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821" y="2558"/>
                    </a:moveTo>
                    <a:arcTo wR="10800" hR="10800" stAng="-7815428" swAng="7815428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386040" y="4394160"/>
                <a:ext cx="48816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HA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30880" y="1503360"/>
              <a:ext cx="4023720" cy="5396040"/>
              <a:chOff x="5330880" y="1503360"/>
              <a:chExt cx="4023720" cy="5396040"/>
            </a:xfrm>
          </p:grpSpPr>
          <p:sp>
            <p:nvSpPr>
              <p:cNvPr id="64" name=""/>
              <p:cNvSpPr/>
              <p:nvPr/>
            </p:nvSpPr>
            <p:spPr>
              <a:xfrm>
                <a:off x="6643800" y="4971960"/>
                <a:ext cx="1491840" cy="113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2" y="15342"/>
                    </a:moveTo>
                    <a:arcTo wR="10800" hR="10800" stAng="9307751" swAng="69361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2" y="15342"/>
                    </a:moveTo>
                    <a:arcTo wR="10800" hR="10800" stAng="9307751" swAng="6936133"/>
                  </a:path>
                </a:pathLst>
              </a:custGeom>
              <a:noFill/>
              <a:ln cap="rnd" w="507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556240" y="5546520"/>
                <a:ext cx="1196640" cy="69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952" y="7116"/>
                    </a:moveTo>
                    <a:arcTo wR="10800" hR="10800" stAng="-1196630" swAng="1143040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952" y="7116"/>
                    </a:moveTo>
                    <a:arcTo wR="10800" hR="10800" stAng="-1196630" swAng="11430406"/>
                  </a:path>
                </a:pathLst>
              </a:custGeom>
              <a:noFill/>
              <a:ln cap="rnd" w="507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30880" y="3021120"/>
                <a:ext cx="3206880" cy="387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85" y="16433"/>
                    </a:moveTo>
                    <a:arcTo wR="10800" hR="10800" stAng="8913680" swAng="798837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85" y="16433"/>
                    </a:moveTo>
                    <a:arcTo wR="10800" hR="10800" stAng="8913680" swAng="7988375"/>
                  </a:path>
                </a:pathLst>
              </a:custGeom>
              <a:noFill/>
              <a:ln cap="rnd" w="507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368400" y="1503360"/>
                <a:ext cx="2986200" cy="163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681403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6814035"/>
                  </a:path>
                </a:pathLst>
              </a:custGeom>
              <a:noFill/>
              <a:ln cap="rnd" w="507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92960" y="4970520"/>
                <a:ext cx="1774800" cy="6120"/>
              </a:xfrm>
              <a:prstGeom prst="line">
                <a:avLst/>
              </a:prstGeom>
              <a:ln w="507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8060000">
                <a:off x="6534720" y="5226480"/>
                <a:ext cx="5904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A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7915320" y="2795760"/>
              <a:ext cx="1182600" cy="1443960"/>
              <a:chOff x="7915320" y="2795760"/>
              <a:chExt cx="1182600" cy="1443960"/>
            </a:xfrm>
          </p:grpSpPr>
          <p:grpSp>
            <p:nvGrpSpPr>
              <p:cNvPr id="71" name=""/>
              <p:cNvGrpSpPr/>
              <p:nvPr/>
            </p:nvGrpSpPr>
            <p:grpSpPr>
              <a:xfrm>
                <a:off x="7915320" y="2795760"/>
                <a:ext cx="1182600" cy="906480"/>
                <a:chOff x="7915320" y="2795760"/>
                <a:chExt cx="1182600" cy="906480"/>
              </a:xfrm>
            </p:grpSpPr>
            <p:grpSp>
              <p:nvGrpSpPr>
                <p:cNvPr id="72" name=""/>
                <p:cNvGrpSpPr/>
                <p:nvPr/>
              </p:nvGrpSpPr>
              <p:grpSpPr>
                <a:xfrm>
                  <a:off x="7915320" y="2795760"/>
                  <a:ext cx="1182600" cy="896040"/>
                  <a:chOff x="7915320" y="2795760"/>
                  <a:chExt cx="1182600" cy="896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flipH="1" flipV="1" rot="10800000">
                    <a:off x="8058240" y="3027960"/>
                    <a:ext cx="906480" cy="663480"/>
                  </a:xfrm>
                  <a:custGeom>
                    <a:avLst/>
                    <a:gdLst>
                      <a:gd name="textAreaLeft" fmla="*/ 100800 w 906480"/>
                      <a:gd name="textAreaRight" fmla="*/ 805680 w 906480"/>
                      <a:gd name="textAreaTop" fmla="*/ 73800 h 663480"/>
                      <a:gd name="textAreaBottom" fmla="*/ 589680 h 663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20424" y="21600"/>
                        </a:lnTo>
                        <a:lnTo>
                          <a:pt x="1176" y="2160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915320" y="2795760"/>
                    <a:ext cx="1182600" cy="487080"/>
                  </a:xfrm>
                  <a:custGeom>
                    <a:avLst/>
                    <a:gdLst>
                      <a:gd name="textAreaLeft" fmla="*/ 270000 w 1182600"/>
                      <a:gd name="textAreaRight" fmla="*/ 912600 w 1182600"/>
                      <a:gd name="textAreaTop" fmla="*/ 111240 h 487080"/>
                      <a:gd name="textAreaBottom" fmla="*/ 375840 h 487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 rot="21120000">
                    <a:off x="8097120" y="2918880"/>
                    <a:ext cx="83592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TACCCG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" name=""/>
                <p:cNvSpPr/>
                <p:nvPr/>
              </p:nvSpPr>
              <p:spPr>
                <a:xfrm>
                  <a:off x="8231760" y="3305160"/>
                  <a:ext cx="57960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N-Co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Sin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8096400" y="3147840"/>
                <a:ext cx="828000" cy="1091880"/>
                <a:chOff x="8096400" y="3147840"/>
                <a:chExt cx="828000" cy="109188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8096400" y="3147840"/>
                  <a:ext cx="828000" cy="1091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10800000"/>
                    </a:path>
                  </a:pathLst>
                </a:custGeom>
                <a:solidFill>
                  <a:srgbClr val="ff3300">
                    <a:alpha val="50000"/>
                  </a:srgbClr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8222400" y="3959280"/>
                  <a:ext cx="556920" cy="25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3300"/>
                      </a:solidFill>
                      <a:latin typeface="Arial"/>
                    </a:rPr>
                    <a:t>RPD3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8263080" y="3745080"/>
                  <a:ext cx="523800" cy="223560"/>
                  <a:chOff x="8263080" y="3745080"/>
                  <a:chExt cx="523800" cy="223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>
                    <a:off x="8263080" y="3745080"/>
                    <a:ext cx="523800" cy="2235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8286840" y="3767040"/>
                    <a:ext cx="79200" cy="46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8286840" y="3897360"/>
                    <a:ext cx="79200" cy="46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 flipV="1">
                    <a:off x="8307360" y="3763800"/>
                    <a:ext cx="425520" cy="130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8321760" y="3819600"/>
                    <a:ext cx="417600" cy="93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 flipV="1">
                    <a:off x="8302680" y="3819240"/>
                    <a:ext cx="147600" cy="745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8310600" y="3816360"/>
                    <a:ext cx="142920" cy="65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flipV="1">
                    <a:off x="8450280" y="3760920"/>
                    <a:ext cx="306360" cy="55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8453520" y="3881520"/>
                    <a:ext cx="29988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8408880" y="3841920"/>
                    <a:ext cx="12960" cy="14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91" name=""/>
            <p:cNvGrpSpPr/>
            <p:nvPr/>
          </p:nvGrpSpPr>
          <p:grpSpPr>
            <a:xfrm>
              <a:off x="7346880" y="4640760"/>
              <a:ext cx="2531520" cy="1457280"/>
              <a:chOff x="7346880" y="4640760"/>
              <a:chExt cx="2531520" cy="1457280"/>
            </a:xfrm>
          </p:grpSpPr>
          <p:sp>
            <p:nvSpPr>
              <p:cNvPr id="92" name=""/>
              <p:cNvSpPr/>
              <p:nvPr/>
            </p:nvSpPr>
            <p:spPr>
              <a:xfrm rot="1200000">
                <a:off x="8835480" y="5674680"/>
                <a:ext cx="367920" cy="371520"/>
              </a:xfrm>
              <a:custGeom>
                <a:avLst/>
                <a:gdLst>
                  <a:gd name="textAreaLeft" fmla="*/ 83880 w 367920"/>
                  <a:gd name="textAreaRight" fmla="*/ 284040 w 367920"/>
                  <a:gd name="textAreaTop" fmla="*/ 84600 h 371520"/>
                  <a:gd name="textAreaBottom" fmla="*/ 286920 h 371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200000">
                <a:off x="7399080" y="4777920"/>
                <a:ext cx="367920" cy="371520"/>
              </a:xfrm>
              <a:custGeom>
                <a:avLst/>
                <a:gdLst>
                  <a:gd name="textAreaLeft" fmla="*/ 83880 w 367920"/>
                  <a:gd name="textAreaRight" fmla="*/ 284040 w 367920"/>
                  <a:gd name="textAreaTop" fmla="*/ 84600 h 371520"/>
                  <a:gd name="textAreaBottom" fmla="*/ 286920 h 371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200000">
                <a:off x="7803720" y="4692240"/>
                <a:ext cx="367920" cy="371520"/>
              </a:xfrm>
              <a:custGeom>
                <a:avLst/>
                <a:gdLst>
                  <a:gd name="textAreaLeft" fmla="*/ 83880 w 367920"/>
                  <a:gd name="textAreaRight" fmla="*/ 284040 w 367920"/>
                  <a:gd name="textAreaTop" fmla="*/ 84600 h 371520"/>
                  <a:gd name="textAreaBottom" fmla="*/ 286920 h 371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200000">
                <a:off x="8168760" y="4863600"/>
                <a:ext cx="367920" cy="371520"/>
              </a:xfrm>
              <a:custGeom>
                <a:avLst/>
                <a:gdLst>
                  <a:gd name="textAreaLeft" fmla="*/ 83880 w 367920"/>
                  <a:gd name="textAreaRight" fmla="*/ 284040 w 367920"/>
                  <a:gd name="textAreaTop" fmla="*/ 84600 h 371520"/>
                  <a:gd name="textAreaBottom" fmla="*/ 286920 h 371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200000">
                <a:off x="8511480" y="4728600"/>
                <a:ext cx="367920" cy="371520"/>
              </a:xfrm>
              <a:custGeom>
                <a:avLst/>
                <a:gdLst>
                  <a:gd name="textAreaLeft" fmla="*/ 83880 w 367920"/>
                  <a:gd name="textAreaRight" fmla="*/ 284040 w 367920"/>
                  <a:gd name="textAreaTop" fmla="*/ 84600 h 371520"/>
                  <a:gd name="textAreaBottom" fmla="*/ 286920 h 371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200000">
                <a:off x="7632000" y="5022360"/>
                <a:ext cx="367920" cy="371520"/>
              </a:xfrm>
              <a:custGeom>
                <a:avLst/>
                <a:gdLst>
                  <a:gd name="textAreaLeft" fmla="*/ 83880 w 367920"/>
                  <a:gd name="textAreaRight" fmla="*/ 284040 w 367920"/>
                  <a:gd name="textAreaTop" fmla="*/ 84600 h 371520"/>
                  <a:gd name="textAreaBottom" fmla="*/ 286920 h 371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200000">
                <a:off x="7948080" y="5094000"/>
                <a:ext cx="367920" cy="371160"/>
              </a:xfrm>
              <a:custGeom>
                <a:avLst/>
                <a:gdLst>
                  <a:gd name="textAreaLeft" fmla="*/ 83880 w 367920"/>
                  <a:gd name="textAreaRight" fmla="*/ 284040 w 367920"/>
                  <a:gd name="textAreaTop" fmla="*/ 84600 h 371160"/>
                  <a:gd name="textAreaBottom" fmla="*/ 286560 h 371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200000">
                <a:off x="8827560" y="4911120"/>
                <a:ext cx="367920" cy="371520"/>
              </a:xfrm>
              <a:custGeom>
                <a:avLst/>
                <a:gdLst>
                  <a:gd name="textAreaLeft" fmla="*/ 83880 w 367920"/>
                  <a:gd name="textAreaRight" fmla="*/ 284040 w 367920"/>
                  <a:gd name="textAreaTop" fmla="*/ 84600 h 371520"/>
                  <a:gd name="textAreaBottom" fmla="*/ 286920 h 371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200000">
                <a:off x="8449560" y="5095440"/>
                <a:ext cx="367920" cy="371520"/>
              </a:xfrm>
              <a:custGeom>
                <a:avLst/>
                <a:gdLst>
                  <a:gd name="textAreaLeft" fmla="*/ 83880 w 367920"/>
                  <a:gd name="textAreaRight" fmla="*/ 284040 w 367920"/>
                  <a:gd name="textAreaTop" fmla="*/ 84600 h 371520"/>
                  <a:gd name="textAreaBottom" fmla="*/ 286920 h 371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200000">
                <a:off x="8181360" y="5339880"/>
                <a:ext cx="367920" cy="371520"/>
              </a:xfrm>
              <a:custGeom>
                <a:avLst/>
                <a:gdLst>
                  <a:gd name="textAreaLeft" fmla="*/ 83880 w 367920"/>
                  <a:gd name="textAreaRight" fmla="*/ 284040 w 367920"/>
                  <a:gd name="textAreaTop" fmla="*/ 84600 h 371520"/>
                  <a:gd name="textAreaBottom" fmla="*/ 286920 h 371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200000">
                <a:off x="8560800" y="5486040"/>
                <a:ext cx="367920" cy="371520"/>
              </a:xfrm>
              <a:custGeom>
                <a:avLst/>
                <a:gdLst>
                  <a:gd name="textAreaLeft" fmla="*/ 83880 w 367920"/>
                  <a:gd name="textAreaRight" fmla="*/ 284040 w 367920"/>
                  <a:gd name="textAreaTop" fmla="*/ 84600 h 371520"/>
                  <a:gd name="textAreaBottom" fmla="*/ 286920 h 371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200000">
                <a:off x="8803800" y="5265360"/>
                <a:ext cx="367920" cy="371520"/>
              </a:xfrm>
              <a:custGeom>
                <a:avLst/>
                <a:gdLst>
                  <a:gd name="textAreaLeft" fmla="*/ 83880 w 367920"/>
                  <a:gd name="textAreaRight" fmla="*/ 284040 w 367920"/>
                  <a:gd name="textAreaTop" fmla="*/ 84600 h 371520"/>
                  <a:gd name="textAreaBottom" fmla="*/ 286920 h 371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200000">
                <a:off x="9121320" y="5119200"/>
                <a:ext cx="367920" cy="371520"/>
              </a:xfrm>
              <a:custGeom>
                <a:avLst/>
                <a:gdLst>
                  <a:gd name="textAreaLeft" fmla="*/ 83880 w 367920"/>
                  <a:gd name="textAreaRight" fmla="*/ 284040 w 367920"/>
                  <a:gd name="textAreaTop" fmla="*/ 84600 h 371520"/>
                  <a:gd name="textAreaBottom" fmla="*/ 286920 h 371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200000">
                <a:off x="9097560" y="5460480"/>
                <a:ext cx="367920" cy="371520"/>
              </a:xfrm>
              <a:custGeom>
                <a:avLst/>
                <a:gdLst>
                  <a:gd name="textAreaLeft" fmla="*/ 83880 w 367920"/>
                  <a:gd name="textAreaRight" fmla="*/ 284040 w 367920"/>
                  <a:gd name="textAreaTop" fmla="*/ 84600 h 371520"/>
                  <a:gd name="textAreaBottom" fmla="*/ 286920 h 371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200000">
                <a:off x="9433800" y="4944600"/>
                <a:ext cx="368280" cy="371520"/>
              </a:xfrm>
              <a:custGeom>
                <a:avLst/>
                <a:gdLst>
                  <a:gd name="textAreaLeft" fmla="*/ 83880 w 368280"/>
                  <a:gd name="textAreaRight" fmla="*/ 284400 w 368280"/>
                  <a:gd name="textAreaTop" fmla="*/ 84600 h 371520"/>
                  <a:gd name="textAreaBottom" fmla="*/ 286920 h 371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200000">
                <a:off x="9116640" y="4723920"/>
                <a:ext cx="367920" cy="371520"/>
              </a:xfrm>
              <a:custGeom>
                <a:avLst/>
                <a:gdLst>
                  <a:gd name="textAreaLeft" fmla="*/ 83880 w 367920"/>
                  <a:gd name="textAreaRight" fmla="*/ 284040 w 367920"/>
                  <a:gd name="textAreaTop" fmla="*/ 84600 h 371520"/>
                  <a:gd name="textAreaBottom" fmla="*/ 286920 h 371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200000">
                <a:off x="9457920" y="5308200"/>
                <a:ext cx="367920" cy="371520"/>
              </a:xfrm>
              <a:custGeom>
                <a:avLst/>
                <a:gdLst>
                  <a:gd name="textAreaLeft" fmla="*/ 83880 w 367920"/>
                  <a:gd name="textAreaRight" fmla="*/ 284040 w 367920"/>
                  <a:gd name="textAreaTop" fmla="*/ 84600 h 371520"/>
                  <a:gd name="textAreaBottom" fmla="*/ 286920 h 371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200000">
                <a:off x="9359280" y="5674680"/>
                <a:ext cx="367920" cy="371520"/>
              </a:xfrm>
              <a:custGeom>
                <a:avLst/>
                <a:gdLst>
                  <a:gd name="textAreaLeft" fmla="*/ 83880 w 367920"/>
                  <a:gd name="textAreaRight" fmla="*/ 284040 w 367920"/>
                  <a:gd name="textAreaTop" fmla="*/ 84600 h 371520"/>
                  <a:gd name="textAreaBottom" fmla="*/ 286920 h 371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6822720" y="3622680"/>
              <a:ext cx="12153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H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ist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D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eacetyl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573960" y="2489040"/>
              <a:ext cx="2379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Without</a:t>
              </a:r>
              <a:r>
                <a:rPr b="1" i="1" lang="en-US" sz="1400" spc="-1" strike="noStrike">
                  <a:solidFill>
                    <a:srgbClr val="3333cc"/>
                  </a:solidFill>
                  <a:latin typeface="Arial"/>
                </a:rPr>
                <a:t> Thyroid Horm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685880" y="6348240"/>
            <a:ext cx="3638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apted from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olff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ture 38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16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9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0600" y="1295280"/>
            <a:ext cx="5027400" cy="5466240"/>
            <a:chOff x="390600" y="1295280"/>
            <a:chExt cx="5027400" cy="5466240"/>
          </a:xfrm>
        </p:grpSpPr>
        <p:grpSp>
          <p:nvGrpSpPr>
            <p:cNvPr id="114" name=""/>
            <p:cNvGrpSpPr/>
            <p:nvPr/>
          </p:nvGrpSpPr>
          <p:grpSpPr>
            <a:xfrm>
              <a:off x="3052800" y="4648320"/>
              <a:ext cx="2011320" cy="1055520"/>
              <a:chOff x="3052800" y="4648320"/>
              <a:chExt cx="2011320" cy="105552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3219480" y="4648320"/>
                <a:ext cx="348840" cy="588960"/>
                <a:chOff x="3219480" y="4648320"/>
                <a:chExt cx="348840" cy="588960"/>
              </a:xfrm>
            </p:grpSpPr>
            <p:sp>
              <p:nvSpPr>
                <p:cNvPr id="116" name=""/>
                <p:cNvSpPr/>
                <p:nvPr/>
              </p:nvSpPr>
              <p:spPr>
                <a:xfrm flipH="1">
                  <a:off x="3219480" y="4946760"/>
                  <a:ext cx="201600" cy="223560"/>
                </a:xfrm>
                <a:prstGeom prst="line">
                  <a:avLst/>
                </a:prstGeom>
                <a:ln w="12600">
                  <a:solidFill>
                    <a:srgbClr val="00cc99"/>
                  </a:solidFill>
                  <a:miter/>
                  <a:headEnd len="med" type="diamond" w="med"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H="1">
                  <a:off x="3409560" y="4668840"/>
                  <a:ext cx="158760" cy="279360"/>
                </a:xfrm>
                <a:prstGeom prst="line">
                  <a:avLst/>
                </a:prstGeom>
                <a:ln w="12600">
                  <a:solidFill>
                    <a:srgbClr val="00cc99"/>
                  </a:solidFill>
                  <a:miter/>
                  <a:headEnd len="med" type="diamond" w="med"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flipH="1">
                  <a:off x="3376440" y="4648320"/>
                  <a:ext cx="46080" cy="271440"/>
                </a:xfrm>
                <a:prstGeom prst="line">
                  <a:avLst/>
                </a:prstGeom>
                <a:ln w="12600">
                  <a:solidFill>
                    <a:srgbClr val="00cc99"/>
                  </a:solidFill>
                  <a:miter/>
                  <a:headEnd len="med" type="diamond" w="med"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flipH="1">
                  <a:off x="3309480" y="4978440"/>
                  <a:ext cx="117720" cy="255600"/>
                </a:xfrm>
                <a:prstGeom prst="line">
                  <a:avLst/>
                </a:prstGeom>
                <a:ln w="12600">
                  <a:solidFill>
                    <a:srgbClr val="00cc99"/>
                  </a:solidFill>
                  <a:miter/>
                  <a:headEnd len="med" type="diamond" w="med"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3435480" y="4941720"/>
                  <a:ext cx="42840" cy="295560"/>
                </a:xfrm>
                <a:prstGeom prst="line">
                  <a:avLst/>
                </a:prstGeom>
                <a:ln w="12600">
                  <a:solidFill>
                    <a:srgbClr val="00cc99"/>
                  </a:solidFill>
                  <a:miter/>
                  <a:headEnd len="med" type="diamond" w="med"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4044600" y="5114880"/>
                <a:ext cx="357480" cy="588960"/>
                <a:chOff x="4044600" y="5114880"/>
                <a:chExt cx="357480" cy="588960"/>
              </a:xfrm>
            </p:grpSpPr>
            <p:sp>
              <p:nvSpPr>
                <p:cNvPr id="122" name=""/>
                <p:cNvSpPr/>
                <p:nvPr/>
              </p:nvSpPr>
              <p:spPr>
                <a:xfrm flipH="1">
                  <a:off x="4044600" y="5413320"/>
                  <a:ext cx="204840" cy="219240"/>
                </a:xfrm>
                <a:prstGeom prst="line">
                  <a:avLst/>
                </a:prstGeom>
                <a:ln w="12600">
                  <a:solidFill>
                    <a:srgbClr val="00cc99"/>
                  </a:solidFill>
                  <a:miter/>
                  <a:headEnd len="med" type="diamond" w="med"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 flipH="1">
                  <a:off x="4240080" y="5137200"/>
                  <a:ext cx="162000" cy="277920"/>
                </a:xfrm>
                <a:prstGeom prst="line">
                  <a:avLst/>
                </a:prstGeom>
                <a:ln w="12600">
                  <a:solidFill>
                    <a:srgbClr val="00cc99"/>
                  </a:solidFill>
                  <a:miter/>
                  <a:headEnd len="med" type="diamond" w="med"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H="1">
                  <a:off x="4206960" y="5114880"/>
                  <a:ext cx="48960" cy="271440"/>
                </a:xfrm>
                <a:prstGeom prst="line">
                  <a:avLst/>
                </a:prstGeom>
                <a:ln w="12600">
                  <a:solidFill>
                    <a:srgbClr val="00cc99"/>
                  </a:solidFill>
                  <a:miter/>
                  <a:headEnd len="med" type="diamond" w="med"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flipH="1">
                  <a:off x="4133520" y="5445000"/>
                  <a:ext cx="120600" cy="252360"/>
                </a:xfrm>
                <a:prstGeom prst="line">
                  <a:avLst/>
                </a:prstGeom>
                <a:ln w="12600">
                  <a:solidFill>
                    <a:srgbClr val="00cc99"/>
                  </a:solidFill>
                  <a:miter/>
                  <a:headEnd len="med" type="diamond" w="med"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4264200" y="5408640"/>
                  <a:ext cx="37800" cy="295200"/>
                </a:xfrm>
                <a:prstGeom prst="line">
                  <a:avLst/>
                </a:prstGeom>
                <a:ln w="12600">
                  <a:solidFill>
                    <a:srgbClr val="00cc99"/>
                  </a:solidFill>
                  <a:miter/>
                  <a:headEnd len="med" type="diamond" w="med"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3765600" y="4733640"/>
                <a:ext cx="312840" cy="592200"/>
                <a:chOff x="3765600" y="4733640"/>
                <a:chExt cx="312840" cy="592200"/>
              </a:xfrm>
            </p:grpSpPr>
            <p:sp>
              <p:nvSpPr>
                <p:cNvPr id="128" name=""/>
                <p:cNvSpPr/>
                <p:nvPr/>
              </p:nvSpPr>
              <p:spPr>
                <a:xfrm flipV="1">
                  <a:off x="3894120" y="4790880"/>
                  <a:ext cx="184320" cy="236520"/>
                </a:xfrm>
                <a:prstGeom prst="line">
                  <a:avLst/>
                </a:prstGeom>
                <a:ln w="12600">
                  <a:solidFill>
                    <a:srgbClr val="00cc99"/>
                  </a:solidFill>
                  <a:miter/>
                  <a:headEnd len="med" type="diamond" w="med"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flipV="1">
                  <a:off x="3765600" y="5024160"/>
                  <a:ext cx="138240" cy="290520"/>
                </a:xfrm>
                <a:prstGeom prst="line">
                  <a:avLst/>
                </a:prstGeom>
                <a:ln w="12600">
                  <a:solidFill>
                    <a:srgbClr val="00cc99"/>
                  </a:solidFill>
                  <a:miter/>
                  <a:headEnd len="med" type="diamond" w="med"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V="1">
                  <a:off x="3913200" y="5051160"/>
                  <a:ext cx="25560" cy="274680"/>
                </a:xfrm>
                <a:prstGeom prst="line">
                  <a:avLst/>
                </a:prstGeom>
                <a:ln w="12600">
                  <a:solidFill>
                    <a:srgbClr val="00cc99"/>
                  </a:solidFill>
                  <a:miter/>
                  <a:headEnd len="med" type="diamond" w="med"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flipV="1">
                  <a:off x="3886200" y="4733640"/>
                  <a:ext cx="98280" cy="261720"/>
                </a:xfrm>
                <a:prstGeom prst="line">
                  <a:avLst/>
                </a:prstGeom>
                <a:ln w="12600">
                  <a:solidFill>
                    <a:srgbClr val="00cc99"/>
                  </a:solidFill>
                  <a:miter/>
                  <a:headEnd len="med" type="diamond" w="med"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flipH="1" flipV="1">
                  <a:off x="3816360" y="4741560"/>
                  <a:ext cx="63360" cy="290520"/>
                </a:xfrm>
                <a:prstGeom prst="line">
                  <a:avLst/>
                </a:prstGeom>
                <a:ln w="12600">
                  <a:solidFill>
                    <a:srgbClr val="00cc99"/>
                  </a:solidFill>
                  <a:miter/>
                  <a:headEnd len="med" type="diamond" w="med"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4473720" y="5084640"/>
                <a:ext cx="581040" cy="505080"/>
                <a:chOff x="4473720" y="5084640"/>
                <a:chExt cx="581040" cy="505080"/>
              </a:xfrm>
            </p:grpSpPr>
            <p:sp>
              <p:nvSpPr>
                <p:cNvPr id="134" name=""/>
                <p:cNvSpPr/>
                <p:nvPr/>
              </p:nvSpPr>
              <p:spPr>
                <a:xfrm flipV="1">
                  <a:off x="4759200" y="5293800"/>
                  <a:ext cx="295560" cy="57240"/>
                </a:xfrm>
                <a:prstGeom prst="line">
                  <a:avLst/>
                </a:prstGeom>
                <a:ln w="12600">
                  <a:solidFill>
                    <a:srgbClr val="00cc99"/>
                  </a:solidFill>
                  <a:miter/>
                  <a:headEnd len="med" type="diamond" w="med"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V="1">
                  <a:off x="4473720" y="5356080"/>
                  <a:ext cx="295200" cy="128880"/>
                </a:xfrm>
                <a:prstGeom prst="line">
                  <a:avLst/>
                </a:prstGeom>
                <a:ln w="12600">
                  <a:solidFill>
                    <a:srgbClr val="00cc99"/>
                  </a:solidFill>
                  <a:miter/>
                  <a:headEnd len="med" type="diamond" w="med"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V="1">
                  <a:off x="4578480" y="5398920"/>
                  <a:ext cx="199800" cy="190800"/>
                </a:xfrm>
                <a:prstGeom prst="line">
                  <a:avLst/>
                </a:prstGeom>
                <a:ln w="12600">
                  <a:solidFill>
                    <a:srgbClr val="00cc99"/>
                  </a:solidFill>
                  <a:miter/>
                  <a:headEnd len="med" type="diamond" w="med"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flipV="1">
                  <a:off x="4773600" y="5189040"/>
                  <a:ext cx="247680" cy="133560"/>
                </a:xfrm>
                <a:prstGeom prst="line">
                  <a:avLst/>
                </a:prstGeom>
                <a:ln w="12600">
                  <a:solidFill>
                    <a:srgbClr val="00cc99"/>
                  </a:solidFill>
                  <a:miter/>
                  <a:headEnd len="med" type="diamond" w="med"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V="1">
                  <a:off x="4745160" y="5084640"/>
                  <a:ext cx="142920" cy="262080"/>
                </a:xfrm>
                <a:prstGeom prst="line">
                  <a:avLst/>
                </a:prstGeom>
                <a:ln w="12600">
                  <a:solidFill>
                    <a:srgbClr val="00cc99"/>
                  </a:solidFill>
                  <a:miter/>
                  <a:headEnd len="med" type="diamond" w="med"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3052800" y="4699440"/>
                <a:ext cx="2011320" cy="931320"/>
                <a:chOff x="3052800" y="4699440"/>
                <a:chExt cx="2011320" cy="931320"/>
              </a:xfrm>
            </p:grpSpPr>
            <p:sp>
              <p:nvSpPr>
                <p:cNvPr id="140" name=""/>
                <p:cNvSpPr/>
                <p:nvPr/>
              </p:nvSpPr>
              <p:spPr>
                <a:xfrm rot="1200000">
                  <a:off x="4063680" y="5207040"/>
                  <a:ext cx="369720" cy="371520"/>
                </a:xfrm>
                <a:custGeom>
                  <a:avLst/>
                  <a:gdLst>
                    <a:gd name="textAreaLeft" fmla="*/ 84240 w 369720"/>
                    <a:gd name="textAreaRight" fmla="*/ 285480 w 369720"/>
                    <a:gd name="textAreaTop" fmla="*/ 84600 h 371520"/>
                    <a:gd name="textAreaBottom" fmla="*/ 286920 h 371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033800" y="5072040"/>
                  <a:ext cx="185760" cy="512640"/>
                </a:xfrm>
                <a:prstGeom prst="line">
                  <a:avLst/>
                </a:prstGeom>
                <a:ln w="507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4357800" y="5250960"/>
                  <a:ext cx="299880" cy="32040"/>
                </a:xfrm>
                <a:prstGeom prst="line">
                  <a:avLst/>
                </a:prstGeom>
                <a:ln w="507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3470400" y="4965840"/>
                  <a:ext cx="311040" cy="115920"/>
                </a:xfrm>
                <a:prstGeom prst="line">
                  <a:avLst/>
                </a:prstGeom>
                <a:ln w="507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052800" y="4834080"/>
                  <a:ext cx="266760" cy="10800"/>
                </a:xfrm>
                <a:prstGeom prst="line">
                  <a:avLst/>
                </a:prstGeom>
                <a:ln w="507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rot="1200000">
                  <a:off x="3257280" y="4750920"/>
                  <a:ext cx="368280" cy="371520"/>
                </a:xfrm>
                <a:custGeom>
                  <a:avLst/>
                  <a:gdLst>
                    <a:gd name="textAreaLeft" fmla="*/ 83880 w 368280"/>
                    <a:gd name="textAreaRight" fmla="*/ 284400 w 368280"/>
                    <a:gd name="textAreaTop" fmla="*/ 84600 h 371520"/>
                    <a:gd name="textAreaBottom" fmla="*/ 286920 h 371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1200000">
                  <a:off x="3712680" y="4835160"/>
                  <a:ext cx="368280" cy="371520"/>
                </a:xfrm>
                <a:custGeom>
                  <a:avLst/>
                  <a:gdLst>
                    <a:gd name="textAreaLeft" fmla="*/ 83880 w 368280"/>
                    <a:gd name="textAreaRight" fmla="*/ 284400 w 368280"/>
                    <a:gd name="textAreaTop" fmla="*/ 84600 h 371520"/>
                    <a:gd name="textAreaBottom" fmla="*/ 286920 h 371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1200000">
                  <a:off x="4573080" y="5148000"/>
                  <a:ext cx="368280" cy="371520"/>
                </a:xfrm>
                <a:custGeom>
                  <a:avLst/>
                  <a:gdLst>
                    <a:gd name="textAreaLeft" fmla="*/ 83880 w 368280"/>
                    <a:gd name="textAreaRight" fmla="*/ 284400 w 368280"/>
                    <a:gd name="textAreaTop" fmla="*/ 84600 h 371520"/>
                    <a:gd name="textAreaBottom" fmla="*/ 286920 h 371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V="1">
                  <a:off x="3224160" y="4771800"/>
                  <a:ext cx="319320" cy="207720"/>
                </a:xfrm>
                <a:prstGeom prst="line">
                  <a:avLst/>
                </a:prstGeom>
                <a:ln w="507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V="1">
                  <a:off x="3340080" y="4894200"/>
                  <a:ext cx="320760" cy="208080"/>
                </a:xfrm>
                <a:prstGeom prst="line">
                  <a:avLst/>
                </a:prstGeom>
                <a:ln w="507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>
                  <a:off x="3795480" y="4840200"/>
                  <a:ext cx="66600" cy="333360"/>
                </a:xfrm>
                <a:prstGeom prst="line">
                  <a:avLst/>
                </a:prstGeom>
                <a:ln w="507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V="1">
                  <a:off x="3921120" y="4869000"/>
                  <a:ext cx="73080" cy="350640"/>
                </a:xfrm>
                <a:prstGeom prst="line">
                  <a:avLst/>
                </a:prstGeom>
                <a:ln w="507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213080" y="5232240"/>
                  <a:ext cx="142920" cy="314640"/>
                </a:xfrm>
                <a:prstGeom prst="line">
                  <a:avLst/>
                </a:prstGeom>
                <a:ln w="507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4583160" y="5178240"/>
                  <a:ext cx="263520" cy="261720"/>
                </a:xfrm>
                <a:prstGeom prst="line">
                  <a:avLst/>
                </a:prstGeom>
                <a:ln w="507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4702320" y="5289480"/>
                  <a:ext cx="233280" cy="247680"/>
                </a:xfrm>
                <a:prstGeom prst="line">
                  <a:avLst/>
                </a:prstGeom>
                <a:ln w="507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4894200" y="5418000"/>
                  <a:ext cx="169920" cy="20880"/>
                </a:xfrm>
                <a:prstGeom prst="line">
                  <a:avLst/>
                </a:prstGeom>
                <a:ln w="507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6" name=""/>
            <p:cNvGrpSpPr/>
            <p:nvPr/>
          </p:nvGrpSpPr>
          <p:grpSpPr>
            <a:xfrm>
              <a:off x="1235160" y="4043520"/>
              <a:ext cx="1563840" cy="1839600"/>
              <a:chOff x="1235160" y="4043520"/>
              <a:chExt cx="1563840" cy="1839600"/>
            </a:xfrm>
          </p:grpSpPr>
          <p:grpSp>
            <p:nvGrpSpPr>
              <p:cNvPr id="157" name=""/>
              <p:cNvGrpSpPr/>
              <p:nvPr/>
            </p:nvGrpSpPr>
            <p:grpSpPr>
              <a:xfrm>
                <a:off x="1235160" y="4043520"/>
                <a:ext cx="1563840" cy="1839600"/>
                <a:chOff x="1235160" y="4043520"/>
                <a:chExt cx="1563840" cy="183960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1246320" y="4043520"/>
                  <a:ext cx="834120" cy="175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52" y="15848"/>
                      </a:moveTo>
                      <a:arcTo wR="10800" hR="10800" stAng="9128189" swAng="122164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52" y="15848"/>
                      </a:moveTo>
                      <a:arcTo wR="10800" hR="10800" stAng="9128189" swAng="12216431"/>
                    </a:path>
                  </a:pathLst>
                </a:custGeom>
                <a:solidFill>
                  <a:srgbClr val="00cc99">
                    <a:alpha val="50000"/>
                  </a:srgbClr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1284120" y="4856040"/>
                  <a:ext cx="1514880" cy="85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399" y="20153"/>
                      </a:moveTo>
                      <a:arcTo wR="10800" hR="10800" stAng="7200259" swAng="915071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399" y="20153"/>
                      </a:moveTo>
                      <a:arcTo wR="10800" hR="10800" stAng="7200259" swAng="9150710"/>
                    </a:path>
                  </a:pathLst>
                </a:custGeom>
                <a:solidFill>
                  <a:srgbClr val="cccc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590840" y="4857840"/>
                  <a:ext cx="977400" cy="1025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96" y="16610"/>
                      </a:moveTo>
                      <a:arcTo wR="10800" hR="10800" stAng="8847356" swAng="73414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96" y="16610"/>
                      </a:moveTo>
                      <a:arcTo wR="10800" hR="10800" stAng="8847356" swAng="7341483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236960" y="4525920"/>
                  <a:ext cx="7794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AF 25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495080" y="4624560"/>
                  <a:ext cx="255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I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rot="18240000">
                  <a:off x="1239840" y="5133240"/>
                  <a:ext cx="4381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TBP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1357200" y="4346640"/>
                <a:ext cx="625320" cy="18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106835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1068351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477800" y="4138560"/>
                <a:ext cx="240120" cy="735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776763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776763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627560" y="4138560"/>
                <a:ext cx="248400" cy="73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821" y="2558"/>
                    </a:moveTo>
                    <a:arcTo wR="10800" hR="10800" stAng="-7815428" swAng="781542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821" y="2558"/>
                    </a:moveTo>
                    <a:arcTo wR="10800" hR="10800" stAng="-7815428" swAng="7815428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445760" y="4255920"/>
                <a:ext cx="48816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HA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390600" y="1362240"/>
              <a:ext cx="4036680" cy="5399280"/>
              <a:chOff x="390600" y="1362240"/>
              <a:chExt cx="4036680" cy="5399280"/>
            </a:xfrm>
          </p:grpSpPr>
          <p:sp>
            <p:nvSpPr>
              <p:cNvPr id="169" name=""/>
              <p:cNvSpPr/>
              <p:nvPr/>
            </p:nvSpPr>
            <p:spPr>
              <a:xfrm>
                <a:off x="1708200" y="4824360"/>
                <a:ext cx="1491840" cy="113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2" y="15342"/>
                    </a:moveTo>
                    <a:arcTo wR="10800" hR="10800" stAng="9307751" swAng="69361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2" y="15342"/>
                    </a:moveTo>
                    <a:arcTo wR="10800" hR="10800" stAng="9307751" swAng="6936133"/>
                  </a:path>
                </a:pathLst>
              </a:custGeom>
              <a:noFill/>
              <a:ln cap="rnd" w="507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15960" y="5408280"/>
                <a:ext cx="1196640" cy="69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952" y="7116"/>
                    </a:moveTo>
                    <a:arcTo wR="10800" hR="10800" stAng="-1196630" swAng="1143040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952" y="7116"/>
                    </a:moveTo>
                    <a:arcTo wR="10800" hR="10800" stAng="-1196630" swAng="11430406"/>
                  </a:path>
                </a:pathLst>
              </a:custGeom>
              <a:noFill/>
              <a:ln cap="rnd" w="507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90600" y="2882880"/>
                <a:ext cx="3206880" cy="387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85" y="16433"/>
                    </a:moveTo>
                    <a:arcTo wR="10800" hR="10800" stAng="8913680" swAng="798837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85" y="16433"/>
                    </a:moveTo>
                    <a:arcTo wR="10800" hR="10800" stAng="8913680" swAng="7988375"/>
                  </a:path>
                </a:pathLst>
              </a:custGeom>
              <a:noFill/>
              <a:ln cap="rnd" w="507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440360" y="1362240"/>
                <a:ext cx="2986920" cy="163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681403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6814035"/>
                  </a:path>
                </a:pathLst>
              </a:custGeom>
              <a:noFill/>
              <a:ln cap="rnd" w="507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451240" y="4824360"/>
                <a:ext cx="834840" cy="14400"/>
              </a:xfrm>
              <a:prstGeom prst="line">
                <a:avLst/>
              </a:prstGeom>
              <a:ln w="507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8060000">
                <a:off x="1594440" y="5088600"/>
                <a:ext cx="5904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A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2222640" y="4695840"/>
              <a:ext cx="766800" cy="303120"/>
              <a:chOff x="2222640" y="4695840"/>
              <a:chExt cx="766800" cy="303120"/>
            </a:xfrm>
          </p:grpSpPr>
          <p:sp>
            <p:nvSpPr>
              <p:cNvPr id="176" name=""/>
              <p:cNvSpPr/>
              <p:nvPr/>
            </p:nvSpPr>
            <p:spPr>
              <a:xfrm>
                <a:off x="2222640" y="4695840"/>
                <a:ext cx="766800" cy="3031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360880" y="4708440"/>
                <a:ext cx="5173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ol.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1717560" y="2709720"/>
              <a:ext cx="1182960" cy="1541160"/>
              <a:chOff x="1717560" y="2709720"/>
              <a:chExt cx="1182960" cy="154116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1717560" y="2709720"/>
                <a:ext cx="1182960" cy="1541160"/>
                <a:chOff x="1717560" y="2709720"/>
                <a:chExt cx="1182960" cy="1541160"/>
              </a:xfrm>
            </p:grpSpPr>
            <p:grpSp>
              <p:nvGrpSpPr>
                <p:cNvPr id="180" name=""/>
                <p:cNvGrpSpPr/>
                <p:nvPr/>
              </p:nvGrpSpPr>
              <p:grpSpPr>
                <a:xfrm>
                  <a:off x="1897200" y="2984040"/>
                  <a:ext cx="828000" cy="1266840"/>
                  <a:chOff x="1897200" y="2984040"/>
                  <a:chExt cx="828000" cy="126684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>
                    <a:off x="1897200" y="2984040"/>
                    <a:ext cx="828000" cy="1266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108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10800000"/>
                      </a:path>
                    </a:pathLst>
                  </a:custGeom>
                  <a:solidFill>
                    <a:srgbClr val="00cc99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2170080" y="3666960"/>
                    <a:ext cx="301680" cy="35388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 flipV="1">
                    <a:off x="2063880" y="4022280"/>
                    <a:ext cx="504720" cy="468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2084040" y="3813120"/>
                    <a:ext cx="488160" cy="259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1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HAT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2071440" y="3649320"/>
                    <a:ext cx="573840" cy="259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100" spc="-1" strike="noStrike">
                        <a:solidFill>
                          <a:srgbClr val="ffff00"/>
                        </a:solidFill>
                        <a:latin typeface="Arial"/>
                      </a:rPr>
                      <a:t>GCN5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1717560" y="2709720"/>
                  <a:ext cx="1182960" cy="896040"/>
                  <a:chOff x="1717560" y="2709720"/>
                  <a:chExt cx="1182960" cy="89604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flipH="1" flipV="1" rot="10800000">
                    <a:off x="1860480" y="2941920"/>
                    <a:ext cx="906480" cy="663480"/>
                  </a:xfrm>
                  <a:custGeom>
                    <a:avLst/>
                    <a:gdLst>
                      <a:gd name="textAreaLeft" fmla="*/ 100800 w 906480"/>
                      <a:gd name="textAreaRight" fmla="*/ 805680 w 906480"/>
                      <a:gd name="textAreaTop" fmla="*/ 73800 h 663480"/>
                      <a:gd name="textAreaBottom" fmla="*/ 589680 h 663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20424" y="21600"/>
                        </a:lnTo>
                        <a:lnTo>
                          <a:pt x="1176" y="21600"/>
                        </a:lnTo>
                        <a:close/>
                      </a:path>
                    </a:pathLst>
                  </a:custGeom>
                  <a:solidFill>
                    <a:srgbClr val="3333cc">
                      <a:alpha val="50000"/>
                    </a:srgbClr>
                  </a:solidFill>
                  <a:ln w="1260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1717560" y="2709720"/>
                    <a:ext cx="1182960" cy="487440"/>
                  </a:xfrm>
                  <a:custGeom>
                    <a:avLst/>
                    <a:gdLst>
                      <a:gd name="textAreaLeft" fmla="*/ 270000 w 1182960"/>
                      <a:gd name="textAreaRight" fmla="*/ 912960 w 1182960"/>
                      <a:gd name="textAreaTop" fmla="*/ 111240 h 487440"/>
                      <a:gd name="textAreaBottom" fmla="*/ 376200 h 487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652" y="12384"/>
                        </a:lnTo>
                        <a:lnTo>
                          <a:pt x="786" y="14846"/>
                        </a:lnTo>
                        <a:lnTo>
                          <a:pt x="3839" y="15321"/>
                        </a:lnTo>
                        <a:lnTo>
                          <a:pt x="3163" y="18437"/>
                        </a:lnTo>
                        <a:lnTo>
                          <a:pt x="6159" y="17681"/>
                        </a:lnTo>
                        <a:lnTo>
                          <a:pt x="6580" y="20741"/>
                        </a:lnTo>
                        <a:lnTo>
                          <a:pt x="9074" y="18919"/>
                        </a:lnTo>
                        <a:lnTo>
                          <a:pt x="10800" y="21600"/>
                        </a:lnTo>
                        <a:lnTo>
                          <a:pt x="12384" y="18948"/>
                        </a:lnTo>
                        <a:lnTo>
                          <a:pt x="14846" y="20814"/>
                        </a:lnTo>
                        <a:lnTo>
                          <a:pt x="15321" y="17761"/>
                        </a:lnTo>
                        <a:lnTo>
                          <a:pt x="18437" y="18437"/>
                        </a:lnTo>
                        <a:lnTo>
                          <a:pt x="17681" y="15441"/>
                        </a:lnTo>
                        <a:lnTo>
                          <a:pt x="20741" y="15020"/>
                        </a:lnTo>
                        <a:lnTo>
                          <a:pt x="18919" y="12526"/>
                        </a:lnTo>
                        <a:lnTo>
                          <a:pt x="21600" y="10800"/>
                        </a:lnTo>
                        <a:lnTo>
                          <a:pt x="18948" y="9216"/>
                        </a:lnTo>
                        <a:lnTo>
                          <a:pt x="20814" y="6754"/>
                        </a:lnTo>
                        <a:lnTo>
                          <a:pt x="17761" y="6279"/>
                        </a:lnTo>
                        <a:lnTo>
                          <a:pt x="18437" y="3163"/>
                        </a:lnTo>
                        <a:lnTo>
                          <a:pt x="15441" y="3919"/>
                        </a:lnTo>
                        <a:lnTo>
                          <a:pt x="15020" y="859"/>
                        </a:lnTo>
                        <a:lnTo>
                          <a:pt x="12526" y="2681"/>
                        </a:lnTo>
                        <a:lnTo>
                          <a:pt x="10800" y="0"/>
                        </a:lnTo>
                        <a:lnTo>
                          <a:pt x="9216" y="2652"/>
                        </a:lnTo>
                        <a:lnTo>
                          <a:pt x="6754" y="786"/>
                        </a:lnTo>
                        <a:lnTo>
                          <a:pt x="6279" y="3839"/>
                        </a:lnTo>
                        <a:lnTo>
                          <a:pt x="3163" y="3163"/>
                        </a:lnTo>
                        <a:lnTo>
                          <a:pt x="3919" y="6159"/>
                        </a:lnTo>
                        <a:lnTo>
                          <a:pt x="859" y="6580"/>
                        </a:lnTo>
                        <a:lnTo>
                          <a:pt x="2681" y="9074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 rot="360000">
                    <a:off x="1899720" y="2834640"/>
                    <a:ext cx="84492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ACGGT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90" name=""/>
              <p:cNvSpPr/>
              <p:nvPr/>
            </p:nvSpPr>
            <p:spPr>
              <a:xfrm>
                <a:off x="2062440" y="3214440"/>
                <a:ext cx="52956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DA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DA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 rot="480000">
              <a:off x="2193840" y="4513320"/>
              <a:ext cx="946080" cy="114120"/>
            </a:xfrm>
            <a:prstGeom prst="rightArrow">
              <a:avLst>
                <a:gd name="adj1" fmla="val 50000"/>
                <a:gd name="adj2" fmla="val 414549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4920000">
              <a:off x="3426480" y="4425120"/>
              <a:ext cx="461880" cy="110880"/>
            </a:xfrm>
            <a:prstGeom prst="rightArrow">
              <a:avLst>
                <a:gd name="adj1" fmla="val 50000"/>
                <a:gd name="adj2" fmla="val 208298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2460000">
              <a:off x="2585520" y="4314600"/>
              <a:ext cx="766800" cy="110880"/>
            </a:xfrm>
            <a:prstGeom prst="rightArrow">
              <a:avLst>
                <a:gd name="adj1" fmla="val 50000"/>
                <a:gd name="adj2" fmla="val 345811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7200" y="1590840"/>
              <a:ext cx="1980360" cy="70236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Transcript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ACTIV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47200" y="3089160"/>
              <a:ext cx="1195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co-activ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25440" y="3924360"/>
              <a:ext cx="12945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H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ist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A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cety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T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ransfera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5940000">
              <a:off x="3492720" y="3882240"/>
              <a:ext cx="1008000" cy="98280"/>
            </a:xfrm>
            <a:prstGeom prst="rightArrow">
              <a:avLst>
                <a:gd name="adj1" fmla="val 50000"/>
                <a:gd name="adj2" fmla="val 512868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4076640" y="1295280"/>
              <a:ext cx="1341360" cy="451080"/>
              <a:chOff x="4076640" y="1295280"/>
              <a:chExt cx="1341360" cy="451080"/>
            </a:xfrm>
          </p:grpSpPr>
          <p:sp>
            <p:nvSpPr>
              <p:cNvPr id="199" name=""/>
              <p:cNvSpPr/>
              <p:nvPr/>
            </p:nvSpPr>
            <p:spPr>
              <a:xfrm>
                <a:off x="4076640" y="1295280"/>
                <a:ext cx="1341360" cy="451080"/>
              </a:xfrm>
              <a:custGeom>
                <a:avLst/>
                <a:gdLst>
                  <a:gd name="textAreaLeft" fmla="*/ 306000 w 1341360"/>
                  <a:gd name="textAreaRight" fmla="*/ 1035360 w 1341360"/>
                  <a:gd name="textAreaTop" fmla="*/ 102960 h 451080"/>
                  <a:gd name="textAreaBottom" fmla="*/ 348120 h 451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3333cc"/>
              </a:solidFill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392360" y="1374840"/>
                <a:ext cx="7520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R/RX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3214800" y="1327320"/>
              <a:ext cx="549000" cy="463320"/>
              <a:chOff x="3214800" y="1327320"/>
              <a:chExt cx="549000" cy="463320"/>
            </a:xfrm>
          </p:grpSpPr>
          <p:sp>
            <p:nvSpPr>
              <p:cNvPr id="202" name=""/>
              <p:cNvSpPr/>
              <p:nvPr/>
            </p:nvSpPr>
            <p:spPr>
              <a:xfrm>
                <a:off x="3214800" y="1327320"/>
                <a:ext cx="549000" cy="4633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249000" y="1407960"/>
                <a:ext cx="4579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Arial Black"/>
                  </a:rPr>
                  <a:t>T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 rot="5400000">
              <a:off x="3485880" y="1872720"/>
              <a:ext cx="887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rm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736800" y="1301760"/>
              <a:ext cx="3877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Arial Black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403440" y="1919160"/>
              <a:ext cx="158760" cy="330480"/>
            </a:xfrm>
            <a:prstGeom prst="downArrow">
              <a:avLst>
                <a:gd name="adj1" fmla="val 50000"/>
                <a:gd name="adj2" fmla="val 104091"/>
              </a:avLst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2343240" y="2346480"/>
              <a:ext cx="2453400" cy="1866240"/>
              <a:chOff x="2343240" y="2346480"/>
              <a:chExt cx="2453400" cy="1866240"/>
            </a:xfrm>
          </p:grpSpPr>
          <p:grpSp>
            <p:nvGrpSpPr>
              <p:cNvPr id="208" name=""/>
              <p:cNvGrpSpPr/>
              <p:nvPr/>
            </p:nvGrpSpPr>
            <p:grpSpPr>
              <a:xfrm>
                <a:off x="2343240" y="2946960"/>
                <a:ext cx="2453400" cy="1265760"/>
                <a:chOff x="2343240" y="2946960"/>
                <a:chExt cx="2453400" cy="126576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3146400" y="2946960"/>
                  <a:ext cx="828000" cy="1265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10800000"/>
                    </a:path>
                  </a:pathLst>
                </a:custGeom>
                <a:solidFill>
                  <a:srgbClr val="00cc99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0" name=""/>
                <p:cNvGrpSpPr/>
                <p:nvPr/>
              </p:nvGrpSpPr>
              <p:grpSpPr>
                <a:xfrm>
                  <a:off x="2343240" y="3337200"/>
                  <a:ext cx="2453400" cy="675360"/>
                  <a:chOff x="2343240" y="3337200"/>
                  <a:chExt cx="2453400" cy="67536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2343240" y="3337200"/>
                    <a:ext cx="2453400" cy="493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3845" y="21162"/>
                        </a:moveTo>
                        <a:arcTo wR="10800" hR="10800" stAng="4417276" swAng="18690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3845" y="21162"/>
                        </a:moveTo>
                        <a:arcTo wR="10800" hR="10800" stAng="4417276" swAng="1869080"/>
                      </a:path>
                    </a:pathLst>
                  </a:custGeom>
                  <a:noFill/>
                  <a:ln cap="rnd" w="255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3408120" y="3623760"/>
                    <a:ext cx="348840" cy="388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108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10800000"/>
                      </a:path>
                    </a:pathLst>
                  </a:custGeom>
                  <a:solidFill>
                    <a:srgbClr val="969696"/>
                  </a:solidFill>
                  <a:ln cap="rnd"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3345840" y="3631680"/>
                    <a:ext cx="488160" cy="259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1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HAT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3272040" y="3835080"/>
                  <a:ext cx="604080" cy="25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3333cc"/>
                      </a:solidFill>
                      <a:latin typeface="Arial"/>
                    </a:rPr>
                    <a:t>P/CAF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3108240" y="2904480"/>
                <a:ext cx="1146240" cy="663480"/>
                <a:chOff x="3108240" y="2904480"/>
                <a:chExt cx="1146240" cy="663480"/>
              </a:xfrm>
            </p:grpSpPr>
            <p:grpSp>
              <p:nvGrpSpPr>
                <p:cNvPr id="216" name=""/>
                <p:cNvGrpSpPr/>
                <p:nvPr/>
              </p:nvGrpSpPr>
              <p:grpSpPr>
                <a:xfrm>
                  <a:off x="3595680" y="3087720"/>
                  <a:ext cx="658800" cy="377640"/>
                  <a:chOff x="3595680" y="3087720"/>
                  <a:chExt cx="658800" cy="37764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>
                    <a:off x="3595680" y="3087720"/>
                    <a:ext cx="52560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331" h="199">
                        <a:moveTo>
                          <a:pt x="0" y="198"/>
                        </a:moveTo>
                        <a:lnTo>
                          <a:pt x="285" y="135"/>
                        </a:lnTo>
                        <a:lnTo>
                          <a:pt x="330" y="0"/>
                        </a:lnTo>
                        <a:lnTo>
                          <a:pt x="15" y="162"/>
                        </a:lnTo>
                        <a:lnTo>
                          <a:pt x="0" y="198"/>
                        </a:lnTo>
                      </a:path>
                    </a:pathLst>
                  </a:custGeom>
                  <a:solidFill>
                    <a:srgbClr val="00cc99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4048200" y="3268800"/>
                    <a:ext cx="1490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79">
                        <a:moveTo>
                          <a:pt x="0" y="18"/>
                        </a:moveTo>
                        <a:lnTo>
                          <a:pt x="93" y="78"/>
                        </a:lnTo>
                        <a:lnTo>
                          <a:pt x="15" y="0"/>
                        </a:lnTo>
                        <a:lnTo>
                          <a:pt x="0" y="18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3629160" y="3297240"/>
                    <a:ext cx="43020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106">
                        <a:moveTo>
                          <a:pt x="0" y="66"/>
                        </a:moveTo>
                        <a:lnTo>
                          <a:pt x="3" y="105"/>
                        </a:lnTo>
                        <a:lnTo>
                          <a:pt x="270" y="48"/>
                        </a:lnTo>
                        <a:lnTo>
                          <a:pt x="270" y="0"/>
                        </a:lnTo>
                        <a:lnTo>
                          <a:pt x="0" y="66"/>
                        </a:lnTo>
                      </a:path>
                    </a:pathLst>
                  </a:custGeom>
                  <a:solidFill>
                    <a:srgbClr val="00cc99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4057560" y="3273480"/>
                    <a:ext cx="19692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97">
                        <a:moveTo>
                          <a:pt x="0" y="66"/>
                        </a:moveTo>
                        <a:lnTo>
                          <a:pt x="123" y="96"/>
                        </a:lnTo>
                        <a:lnTo>
                          <a:pt x="9" y="0"/>
                        </a:lnTo>
                        <a:lnTo>
                          <a:pt x="0" y="18"/>
                        </a:lnTo>
                        <a:lnTo>
                          <a:pt x="0" y="66"/>
                        </a:lnTo>
                      </a:path>
                    </a:pathLst>
                  </a:custGeom>
                  <a:solidFill>
                    <a:srgbClr val="00cc99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1" name=""/>
                <p:cNvSpPr/>
                <p:nvPr/>
              </p:nvSpPr>
              <p:spPr>
                <a:xfrm flipH="1" flipV="1" rot="10800000">
                  <a:off x="3108240" y="2904120"/>
                  <a:ext cx="906480" cy="663480"/>
                </a:xfrm>
                <a:custGeom>
                  <a:avLst/>
                  <a:gdLst>
                    <a:gd name="textAreaLeft" fmla="*/ 100800 w 906480"/>
                    <a:gd name="textAreaRight" fmla="*/ 805680 w 906480"/>
                    <a:gd name="textAreaTop" fmla="*/ 73800 h 663480"/>
                    <a:gd name="textAreaBottom" fmla="*/ 589680 h 663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0424" y="21600"/>
                      </a:lnTo>
                      <a:lnTo>
                        <a:pt x="1176" y="21600"/>
                      </a:lnTo>
                      <a:close/>
                    </a:path>
                  </a:pathLst>
                </a:custGeom>
                <a:solidFill>
                  <a:srgbClr val="00cc99">
                    <a:alpha val="50000"/>
                  </a:srgbClr>
                </a:solidFill>
                <a:ln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180600" y="3166920"/>
                  <a:ext cx="47304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30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PB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rot="20820000">
                  <a:off x="3721680" y="3182400"/>
                  <a:ext cx="4060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HA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2970360" y="2671920"/>
                <a:ext cx="1182600" cy="487080"/>
                <a:chOff x="2970360" y="2671920"/>
                <a:chExt cx="1182600" cy="48708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2970360" y="2671920"/>
                  <a:ext cx="1182600" cy="487080"/>
                </a:xfrm>
                <a:custGeom>
                  <a:avLst/>
                  <a:gdLst>
                    <a:gd name="textAreaLeft" fmla="*/ 270000 w 1182600"/>
                    <a:gd name="textAreaRight" fmla="*/ 912600 w 1182600"/>
                    <a:gd name="textAreaTop" fmla="*/ 111240 h 487080"/>
                    <a:gd name="textAreaBottom" fmla="*/ 375840 h 487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rot="21120000">
                  <a:off x="3142080" y="2781000"/>
                  <a:ext cx="835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ACCC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3171960" y="2346480"/>
                <a:ext cx="549000" cy="463320"/>
                <a:chOff x="3171960" y="2346480"/>
                <a:chExt cx="549000" cy="46332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3171960" y="2346480"/>
                  <a:ext cx="549000" cy="46332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3206160" y="2427120"/>
                  <a:ext cx="4579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Arial Black"/>
                    </a:rPr>
                    <a:t>T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JH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-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5T20:57:39Z</dcterms:created>
  <dc:creator>Jakob H. Waterborg</dc:creator>
  <dc:description/>
  <dc:language>en-US</dc:language>
  <cp:lastModifiedBy>Jakob H. Waterborg</cp:lastModifiedBy>
  <cp:lastPrinted>1999-03-10T03:31:36Z</cp:lastPrinted>
  <dcterms:modified xsi:type="dcterms:W3CDTF">1999-03-24T13:24:45Z</dcterms:modified>
  <cp:revision>14</cp:revision>
  <dc:subject/>
  <dc:title>CHROMATIN</dc:title>
</cp:coreProperties>
</file>