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A0F3A-6941-498E-964E-6FD983E7A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596C0-AA3D-4304-AF68-0B27CA08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232BE-D343-4D50-98FF-371EA0DD8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74124-F2B6-468D-A081-76CE15A78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789A7-996E-4FB8-97D7-97040227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A3089-45E8-42B5-9403-DE6A7D1B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0AAD3-D852-417B-82B1-139D4ADB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5CF29-F702-4108-A8D0-238127DC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91052-3308-4434-AF86-362CEAB3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139CE-B25B-4238-A199-F02145AE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CDD3D-5EC4-4BE6-9C16-18F42CDC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4FC3C-7CC0-4DC9-922B-C856020A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72320" y="6477120"/>
            <a:ext cx="9428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527760" y="6382800"/>
            <a:ext cx="4366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CA39-25C1-47C9-BA3E-AFB0A3320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47680" y="6259680"/>
            <a:ext cx="1390680" cy="425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630360" y="6480000"/>
            <a:ext cx="550800" cy="2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735760" y="5310000"/>
            <a:ext cx="282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1999, J.H.Waterborg, UMK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17982" r="51703" b="250"/>
          <a:stretch/>
        </p:blipFill>
        <p:spPr>
          <a:xfrm>
            <a:off x="2070000" y="1346040"/>
            <a:ext cx="2605320" cy="4735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829400" y="988920"/>
            <a:ext cx="4559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is of steady state and dynamic acety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65480" y="563400"/>
            <a:ext cx="2335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falfa histone H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41480" y="1020600"/>
            <a:ext cx="1620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l         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12240" y="1501920"/>
            <a:ext cx="2662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ective charge on H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electrophor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46000" y="2376360"/>
            <a:ext cx="245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Ac-lys     n-5 lys 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49240" y="2903400"/>
            <a:ext cx="245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c-lys     n-4 lys 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50680" y="3419640"/>
            <a:ext cx="245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c-lys     n-3 lys 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9520" y="3948120"/>
            <a:ext cx="245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c-lys     n-2 lys 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65440" y="4789440"/>
            <a:ext cx="246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  lys 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60400" y="4429080"/>
            <a:ext cx="245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Ac-lys     n-1 lys 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72280" y="2305080"/>
            <a:ext cx="27810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76600" y="5486400"/>
            <a:ext cx="2657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24160" y="5484960"/>
            <a:ext cx="14144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y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omassi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27720" y="5560920"/>
            <a:ext cx="1130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-ace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0" y="328680"/>
            <a:ext cx="497052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AUT gel 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H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5T20:57:39Z</dcterms:created>
  <dc:creator>Jakob H. Waterborg</dc:creator>
  <dc:description/>
  <dc:language>en-US</dc:language>
  <cp:lastModifiedBy>Jakob H. Waterborg</cp:lastModifiedBy>
  <cp:lastPrinted>1999-03-10T03:31:36Z</cp:lastPrinted>
  <dcterms:modified xsi:type="dcterms:W3CDTF">1999-03-24T13:24:08Z</dcterms:modified>
  <cp:revision>14</cp:revision>
  <dc:subject/>
  <dc:title>CHROMATIN</dc:title>
</cp:coreProperties>
</file>