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BECF-FAFD-4DDF-8D64-923C1B65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926FC-1E8C-4C31-87E6-FE913E4A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529B9-E816-4778-97DA-B93A495D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F978-D11F-4F28-A5E3-334F3CFA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5271-DCF5-412A-91C3-F71E1079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AFEC-47B6-4042-AE31-66C9FBFF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4B8E-C7D3-42CB-9041-2BEC36E0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3190-33CB-4360-AA50-FAC3D8E2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4A1F-509D-40EE-B22D-0F090FAB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83411-96B3-42F6-85D8-CA53CDB3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5B701-6D8B-4D72-9D3B-14D82F4B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CF59-B0B4-4B40-9AC9-F6054585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106D-99D0-4B00-8E82-C17F2CE4E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477360" y="2220840"/>
            <a:ext cx="3161880" cy="4089600"/>
            <a:chOff x="477360" y="2220840"/>
            <a:chExt cx="3161880" cy="4089600"/>
          </a:xfrm>
        </p:grpSpPr>
        <p:grpSp>
          <p:nvGrpSpPr>
            <p:cNvPr id="44" name=""/>
            <p:cNvGrpSpPr/>
            <p:nvPr/>
          </p:nvGrpSpPr>
          <p:grpSpPr>
            <a:xfrm>
              <a:off x="1838160" y="2220840"/>
              <a:ext cx="1462320" cy="3710160"/>
              <a:chOff x="1838160" y="2220840"/>
              <a:chExt cx="1462320" cy="371016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1838160" y="2220840"/>
                <a:ext cx="687600" cy="3703680"/>
                <a:chOff x="1838160" y="2220840"/>
                <a:chExt cx="687600" cy="3703680"/>
              </a:xfrm>
            </p:grpSpPr>
            <p:pic>
              <p:nvPicPr>
                <p:cNvPr id="46" name="" descr=""/>
                <p:cNvPicPr/>
                <p:nvPr/>
              </p:nvPicPr>
              <p:blipFill>
                <a:blip r:embed="rId1"/>
                <a:srcRect l="0" t="0" r="73576" b="0"/>
                <a:stretch/>
              </p:blipFill>
              <p:spPr>
                <a:xfrm>
                  <a:off x="1839960" y="2220840"/>
                  <a:ext cx="685800" cy="36990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47" name=""/>
                <p:cNvGrpSpPr/>
                <p:nvPr/>
              </p:nvGrpSpPr>
              <p:grpSpPr>
                <a:xfrm>
                  <a:off x="1838160" y="2366640"/>
                  <a:ext cx="687600" cy="3557880"/>
                  <a:chOff x="1838160" y="2366640"/>
                  <a:chExt cx="687600" cy="3557880"/>
                </a:xfrm>
              </p:grpSpPr>
              <p:sp>
                <p:nvSpPr>
                  <p:cNvPr id="48" name=""/>
                  <p:cNvSpPr/>
                  <p:nvPr/>
                </p:nvSpPr>
                <p:spPr>
                  <a:xfrm>
                    <a:off x="1839960" y="3052800"/>
                    <a:ext cx="0" cy="2870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525760" y="3052800"/>
                    <a:ext cx="0" cy="2870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1838160" y="3057480"/>
                    <a:ext cx="7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438280" y="3057480"/>
                    <a:ext cx="7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1976400" y="3057480"/>
                    <a:ext cx="395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909800" y="2367000"/>
                    <a:ext cx="7128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flipV="1">
                    <a:off x="2371680" y="2366640"/>
                    <a:ext cx="71640" cy="4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flipV="1">
                    <a:off x="1909800" y="23666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V="1">
                    <a:off x="1981080" y="23760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flipV="1">
                    <a:off x="2443320" y="23713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flipV="1">
                    <a:off x="2371680" y="2381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1838160" y="59245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pic>
            <p:nvPicPr>
              <p:cNvPr id="60" name="" descr=""/>
              <p:cNvPicPr/>
              <p:nvPr/>
            </p:nvPicPr>
            <p:blipFill>
              <a:blip r:embed="rId2"/>
              <a:srcRect l="66355" t="22347" r="0" b="0"/>
              <a:stretch/>
            </p:blipFill>
            <p:spPr>
              <a:xfrm>
                <a:off x="2565360" y="3057480"/>
                <a:ext cx="735120" cy="287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2590920" y="3057480"/>
                <a:ext cx="68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77360" y="5965920"/>
              <a:ext cx="96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ctrod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53320" y="2765520"/>
              <a:ext cx="9698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ectrod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4760" y="2460600"/>
              <a:ext cx="918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el type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97920" y="2460600"/>
              <a:ext cx="550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201680" y="5270400"/>
              <a:ext cx="654480" cy="762120"/>
              <a:chOff x="1201680" y="5270400"/>
              <a:chExt cx="654480" cy="762120"/>
            </a:xfrm>
          </p:grpSpPr>
          <p:pic>
            <p:nvPicPr>
              <p:cNvPr id="67" name="" descr=""/>
              <p:cNvPicPr/>
              <p:nvPr/>
            </p:nvPicPr>
            <p:blipFill>
              <a:blip r:embed="rId3"/>
              <a:srcRect l="0" t="14044" r="50137" b="0"/>
              <a:stretch/>
            </p:blipFill>
            <p:spPr>
              <a:xfrm>
                <a:off x="1397160" y="5270400"/>
                <a:ext cx="3045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1347480" y="529272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201680" y="5627520"/>
                <a:ext cx="65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2 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207800" y="4379760"/>
              <a:ext cx="654480" cy="882720"/>
              <a:chOff x="1207800" y="4379760"/>
              <a:chExt cx="654480" cy="882720"/>
            </a:xfrm>
          </p:grpSpPr>
          <p:pic>
            <p:nvPicPr>
              <p:cNvPr id="71" name="" descr=""/>
              <p:cNvPicPr/>
              <p:nvPr/>
            </p:nvPicPr>
            <p:blipFill>
              <a:blip r:embed="rId4"/>
              <a:srcRect l="51433" t="4785" r="0" b="0"/>
              <a:stretch/>
            </p:blipFill>
            <p:spPr>
              <a:xfrm>
                <a:off x="1411200" y="4379760"/>
                <a:ext cx="297000" cy="88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1356840" y="442584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207800" y="4830840"/>
                <a:ext cx="65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35 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3227040" y="5027760"/>
              <a:ext cx="41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27040" y="5227560"/>
              <a:ext cx="41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031120" y="5943600"/>
              <a:ext cx="319320" cy="366840"/>
              <a:chOff x="2031120" y="5943600"/>
              <a:chExt cx="319320" cy="366840"/>
            </a:xfrm>
          </p:grpSpPr>
          <p:sp>
            <p:nvSpPr>
              <p:cNvPr id="77" name=""/>
              <p:cNvSpPr/>
              <p:nvPr/>
            </p:nvSpPr>
            <p:spPr>
              <a:xfrm>
                <a:off x="2041560" y="5970600"/>
                <a:ext cx="260280" cy="27144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31120" y="5943600"/>
                <a:ext cx="31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2017800" y="2602080"/>
              <a:ext cx="311400" cy="409320"/>
              <a:chOff x="2017800" y="2602080"/>
              <a:chExt cx="311400" cy="409320"/>
            </a:xfrm>
          </p:grpSpPr>
          <p:sp>
            <p:nvSpPr>
              <p:cNvPr id="80" name=""/>
              <p:cNvSpPr/>
              <p:nvPr/>
            </p:nvSpPr>
            <p:spPr>
              <a:xfrm>
                <a:off x="2041560" y="2739960"/>
                <a:ext cx="260280" cy="27144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017800" y="2602080"/>
                <a:ext cx="3114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_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7095960" y="2224080"/>
            <a:ext cx="2124360" cy="3711600"/>
            <a:chOff x="7095960" y="2224080"/>
            <a:chExt cx="2124360" cy="3711600"/>
          </a:xfrm>
        </p:grpSpPr>
        <p:grpSp>
          <p:nvGrpSpPr>
            <p:cNvPr id="83" name=""/>
            <p:cNvGrpSpPr/>
            <p:nvPr/>
          </p:nvGrpSpPr>
          <p:grpSpPr>
            <a:xfrm>
              <a:off x="7095960" y="2224080"/>
              <a:ext cx="1324080" cy="3700440"/>
              <a:chOff x="7095960" y="2224080"/>
              <a:chExt cx="1324080" cy="3700440"/>
            </a:xfrm>
          </p:grpSpPr>
          <p:pic>
            <p:nvPicPr>
              <p:cNvPr id="84" name="" descr=""/>
              <p:cNvPicPr/>
              <p:nvPr/>
            </p:nvPicPr>
            <p:blipFill>
              <a:blip r:embed="rId5"/>
              <a:srcRect l="49020" t="0" r="0" b="0"/>
              <a:stretch/>
            </p:blipFill>
            <p:spPr>
              <a:xfrm>
                <a:off x="7099200" y="2224080"/>
                <a:ext cx="1320840" cy="3699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5" name=""/>
              <p:cNvGrpSpPr/>
              <p:nvPr/>
            </p:nvGrpSpPr>
            <p:grpSpPr>
              <a:xfrm>
                <a:off x="7095960" y="2366640"/>
                <a:ext cx="1301760" cy="3557880"/>
                <a:chOff x="7095960" y="2366640"/>
                <a:chExt cx="1301760" cy="35578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7097760" y="3052800"/>
                  <a:ext cx="0" cy="287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95960" y="305748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234200" y="3057480"/>
                  <a:ext cx="471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167600" y="2367000"/>
                  <a:ext cx="7128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7167600" y="236664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7238880" y="23760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095960" y="592452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397720" y="3052800"/>
                  <a:ext cx="0" cy="287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158320" y="3057480"/>
                  <a:ext cx="75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777080" y="3057480"/>
                  <a:ext cx="46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7705800" y="2367000"/>
                  <a:ext cx="7128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8244000" y="2366640"/>
                  <a:ext cx="7128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7705800" y="236664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V="1">
                  <a:off x="7777080" y="23760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V="1">
                  <a:off x="8315280" y="237132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V="1">
                  <a:off x="8244000" y="2381040"/>
                  <a:ext cx="0" cy="68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710480" y="592452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315280" y="305748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04" name="" descr=""/>
            <p:cNvPicPr/>
            <p:nvPr/>
          </p:nvPicPr>
          <p:blipFill>
            <a:blip r:embed="rId6"/>
            <a:srcRect l="0" t="22223" r="66292" b="0"/>
            <a:stretch/>
          </p:blipFill>
          <p:spPr>
            <a:xfrm>
              <a:off x="8483760" y="3057480"/>
              <a:ext cx="736560" cy="28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8501040" y="3057480"/>
              <a:ext cx="7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352760" y="2224080"/>
            <a:ext cx="1471680" cy="3706920"/>
            <a:chOff x="4352760" y="2224080"/>
            <a:chExt cx="1471680" cy="3706920"/>
          </a:xfrm>
        </p:grpSpPr>
        <p:grpSp>
          <p:nvGrpSpPr>
            <p:cNvPr id="107" name=""/>
            <p:cNvGrpSpPr/>
            <p:nvPr/>
          </p:nvGrpSpPr>
          <p:grpSpPr>
            <a:xfrm>
              <a:off x="4352760" y="2224080"/>
              <a:ext cx="687600" cy="3700440"/>
              <a:chOff x="4352760" y="2224080"/>
              <a:chExt cx="687600" cy="3700440"/>
            </a:xfrm>
          </p:grpSpPr>
          <p:pic>
            <p:nvPicPr>
              <p:cNvPr id="108" name="" descr=""/>
              <p:cNvPicPr/>
              <p:nvPr/>
            </p:nvPicPr>
            <p:blipFill>
              <a:blip r:embed="rId7"/>
              <a:srcRect l="24510" t="0" r="49113" b="0"/>
              <a:stretch/>
            </p:blipFill>
            <p:spPr>
              <a:xfrm>
                <a:off x="4354560" y="2224080"/>
                <a:ext cx="684000" cy="3699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" name=""/>
              <p:cNvGrpSpPr/>
              <p:nvPr/>
            </p:nvGrpSpPr>
            <p:grpSpPr>
              <a:xfrm>
                <a:off x="4352760" y="2366640"/>
                <a:ext cx="687600" cy="3557880"/>
                <a:chOff x="4352760" y="2366640"/>
                <a:chExt cx="687600" cy="35578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4354560" y="3052800"/>
                  <a:ext cx="0" cy="287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040360" y="3052800"/>
                  <a:ext cx="0" cy="287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352760" y="305748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952880" y="3057480"/>
                  <a:ext cx="76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491000" y="3057480"/>
                  <a:ext cx="395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424400" y="2367000"/>
                  <a:ext cx="7128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V="1">
                  <a:off x="4886280" y="2366640"/>
                  <a:ext cx="716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V="1">
                  <a:off x="4424400" y="236664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flipV="1">
                  <a:off x="4495680" y="23760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V="1">
                  <a:off x="4957920" y="237132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V="1">
                  <a:off x="4886280" y="238104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352760" y="592452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22" name="" descr=""/>
            <p:cNvPicPr/>
            <p:nvPr/>
          </p:nvPicPr>
          <p:blipFill>
            <a:blip r:embed="rId8"/>
            <a:srcRect l="33502" t="22347" r="33787" b="0"/>
            <a:stretch/>
          </p:blipFill>
          <p:spPr>
            <a:xfrm>
              <a:off x="5110200" y="3057480"/>
              <a:ext cx="714240" cy="28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114880" y="3057480"/>
              <a:ext cx="7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6680" y="1582560"/>
            <a:ext cx="9786960" cy="7146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Gel Electrophoresis of Hist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0480" y="2460600"/>
            <a:ext cx="441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89920" y="2460600"/>
            <a:ext cx="549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600" y="1747800"/>
            <a:ext cx="233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paration b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27720" y="1604880"/>
            <a:ext cx="933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9800" y="1587600"/>
            <a:ext cx="1838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+ charge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phob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78000" y="4573440"/>
            <a:ext cx="41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78000" y="5332320"/>
            <a:ext cx="41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92600" y="386856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3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04120" y="5305320"/>
            <a:ext cx="412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89720" y="3508200"/>
            <a:ext cx="56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65480" y="4257720"/>
            <a:ext cx="317880" cy="581040"/>
            <a:chOff x="4065480" y="4257720"/>
            <a:chExt cx="317880" cy="581040"/>
          </a:xfrm>
        </p:grpSpPr>
        <p:sp>
          <p:nvSpPr>
            <p:cNvPr id="137" name=""/>
            <p:cNvSpPr/>
            <p:nvPr/>
          </p:nvSpPr>
          <p:spPr>
            <a:xfrm>
              <a:off x="4132440" y="462456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70520" y="453384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1800" y="44388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65480" y="43434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32440" y="425772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70520" y="4876920"/>
            <a:ext cx="308160" cy="695160"/>
            <a:chOff x="4070520" y="4876920"/>
            <a:chExt cx="308160" cy="695160"/>
          </a:xfrm>
        </p:grpSpPr>
        <p:sp>
          <p:nvSpPr>
            <p:cNvPr id="143" name=""/>
            <p:cNvSpPr/>
            <p:nvPr/>
          </p:nvSpPr>
          <p:spPr>
            <a:xfrm>
              <a:off x="4137120" y="535788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32440" y="513864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70520" y="50148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32440" y="487692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70520" y="52434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623760" y="4765680"/>
            <a:ext cx="558000" cy="932760"/>
            <a:chOff x="3623760" y="4765680"/>
            <a:chExt cx="558000" cy="932760"/>
          </a:xfrm>
        </p:grpSpPr>
        <p:pic>
          <p:nvPicPr>
            <p:cNvPr id="149" name="" descr=""/>
            <p:cNvPicPr/>
            <p:nvPr/>
          </p:nvPicPr>
          <p:blipFill>
            <a:blip r:embed="rId9"/>
            <a:srcRect l="0" t="14044" r="50137" b="0"/>
            <a:stretch/>
          </p:blipFill>
          <p:spPr>
            <a:xfrm>
              <a:off x="3835440" y="4821120"/>
              <a:ext cx="3049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623760" y="4905360"/>
              <a:ext cx="41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2680" y="546876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08160" y="487980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9640" y="479916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08160" y="476568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36720" y="3889440"/>
            <a:ext cx="578520" cy="934920"/>
            <a:chOff x="3636720" y="3889440"/>
            <a:chExt cx="578520" cy="934920"/>
          </a:xfrm>
        </p:grpSpPr>
        <p:pic>
          <p:nvPicPr>
            <p:cNvPr id="156" name="" descr=""/>
            <p:cNvPicPr/>
            <p:nvPr/>
          </p:nvPicPr>
          <p:blipFill>
            <a:blip r:embed="rId10"/>
            <a:srcRect l="51433" t="4785" r="0" b="0"/>
            <a:stretch/>
          </p:blipFill>
          <p:spPr>
            <a:xfrm>
              <a:off x="3852720" y="3941640"/>
              <a:ext cx="297000" cy="88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812040" y="4564080"/>
              <a:ext cx="3769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41640" y="401328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84320" y="389880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17880" y="38894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6720" y="4021200"/>
              <a:ext cx="41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837480" y="4876920"/>
            <a:ext cx="308160" cy="695160"/>
            <a:chOff x="6837480" y="4876920"/>
            <a:chExt cx="308160" cy="695160"/>
          </a:xfrm>
        </p:grpSpPr>
        <p:sp>
          <p:nvSpPr>
            <p:cNvPr id="163" name=""/>
            <p:cNvSpPr/>
            <p:nvPr/>
          </p:nvSpPr>
          <p:spPr>
            <a:xfrm>
              <a:off x="6904080" y="535788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99400" y="513864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37480" y="50148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99400" y="487692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37480" y="52434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560120" y="2709720"/>
            <a:ext cx="319320" cy="366840"/>
            <a:chOff x="4560120" y="2709720"/>
            <a:chExt cx="319320" cy="366840"/>
          </a:xfrm>
        </p:grpSpPr>
        <p:sp>
          <p:nvSpPr>
            <p:cNvPr id="169" name=""/>
            <p:cNvSpPr/>
            <p:nvPr/>
          </p:nvSpPr>
          <p:spPr>
            <a:xfrm>
              <a:off x="4570560" y="2736720"/>
              <a:ext cx="260280" cy="2714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60120" y="270972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860600" y="2692440"/>
            <a:ext cx="319320" cy="366840"/>
            <a:chOff x="7860600" y="2692440"/>
            <a:chExt cx="319320" cy="366840"/>
          </a:xfrm>
        </p:grpSpPr>
        <p:sp>
          <p:nvSpPr>
            <p:cNvPr id="172" name=""/>
            <p:cNvSpPr/>
            <p:nvPr/>
          </p:nvSpPr>
          <p:spPr>
            <a:xfrm>
              <a:off x="7870680" y="2719440"/>
              <a:ext cx="260640" cy="2714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60600" y="2692440"/>
              <a:ext cx="319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560840" y="5840280"/>
            <a:ext cx="311400" cy="409680"/>
            <a:chOff x="4560840" y="5840280"/>
            <a:chExt cx="311400" cy="409680"/>
          </a:xfrm>
        </p:grpSpPr>
        <p:sp>
          <p:nvSpPr>
            <p:cNvPr id="175" name=""/>
            <p:cNvSpPr/>
            <p:nvPr/>
          </p:nvSpPr>
          <p:spPr>
            <a:xfrm>
              <a:off x="4584600" y="5978520"/>
              <a:ext cx="260280" cy="2714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60840" y="584028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637400" y="5830920"/>
            <a:ext cx="311400" cy="409680"/>
            <a:chOff x="7637400" y="5830920"/>
            <a:chExt cx="311400" cy="409680"/>
          </a:xfrm>
        </p:grpSpPr>
        <p:sp>
          <p:nvSpPr>
            <p:cNvPr id="178" name=""/>
            <p:cNvSpPr/>
            <p:nvPr/>
          </p:nvSpPr>
          <p:spPr>
            <a:xfrm>
              <a:off x="7661160" y="5969160"/>
              <a:ext cx="260640" cy="2714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37400" y="5830920"/>
              <a:ext cx="311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707480" y="6378480"/>
            <a:ext cx="3751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l sca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alfalfa histone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Waterborg, 90’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387840" y="4707000"/>
            <a:ext cx="604440" cy="932760"/>
            <a:chOff x="6387840" y="4707000"/>
            <a:chExt cx="604440" cy="932760"/>
          </a:xfrm>
        </p:grpSpPr>
        <p:grpSp>
          <p:nvGrpSpPr>
            <p:cNvPr id="182" name=""/>
            <p:cNvGrpSpPr/>
            <p:nvPr/>
          </p:nvGrpSpPr>
          <p:grpSpPr>
            <a:xfrm>
              <a:off x="6387840" y="4707000"/>
              <a:ext cx="558000" cy="932760"/>
              <a:chOff x="6387840" y="4707000"/>
              <a:chExt cx="558000" cy="932760"/>
            </a:xfrm>
          </p:grpSpPr>
          <p:pic>
            <p:nvPicPr>
              <p:cNvPr id="183" name="" descr=""/>
              <p:cNvPicPr/>
              <p:nvPr/>
            </p:nvPicPr>
            <p:blipFill>
              <a:blip r:embed="rId11"/>
              <a:srcRect l="0" t="14044" r="50137" b="0"/>
              <a:stretch/>
            </p:blipFill>
            <p:spPr>
              <a:xfrm>
                <a:off x="6599160" y="4762440"/>
                <a:ext cx="30492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6387840" y="484668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66400" y="541008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72240" y="482112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543360" y="474012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672240" y="470700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693840" y="51498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44600" y="51307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10800000">
              <a:off x="6719040" y="51717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6274800" y="2660760"/>
            <a:ext cx="753480" cy="934920"/>
            <a:chOff x="6274800" y="2660760"/>
            <a:chExt cx="753480" cy="934920"/>
          </a:xfrm>
        </p:grpSpPr>
        <p:grpSp>
          <p:nvGrpSpPr>
            <p:cNvPr id="193" name=""/>
            <p:cNvGrpSpPr/>
            <p:nvPr/>
          </p:nvGrpSpPr>
          <p:grpSpPr>
            <a:xfrm>
              <a:off x="6274800" y="2660760"/>
              <a:ext cx="753480" cy="934920"/>
              <a:chOff x="6274800" y="2660760"/>
              <a:chExt cx="753480" cy="934920"/>
            </a:xfrm>
          </p:grpSpPr>
          <p:pic>
            <p:nvPicPr>
              <p:cNvPr id="194" name="" descr=""/>
              <p:cNvPicPr/>
              <p:nvPr/>
            </p:nvPicPr>
            <p:blipFill>
              <a:blip r:embed="rId12"/>
              <a:srcRect l="51433" t="4785" r="0" b="0"/>
              <a:stretch/>
            </p:blipFill>
            <p:spPr>
              <a:xfrm>
                <a:off x="6665760" y="2712960"/>
                <a:ext cx="297000" cy="88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6399720" y="299232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54680" y="278460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597360" y="267012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30920" y="266076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74800" y="2786040"/>
                <a:ext cx="561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3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476400" y="32274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47760" y="31957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rot="10800000">
              <a:off x="6628680" y="322128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06360" y="31701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6566400" y="32256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6553800" y="31806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6537960" y="32670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6518880" y="31363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43000" y="33228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063840" y="3622680"/>
            <a:ext cx="753120" cy="934920"/>
            <a:chOff x="6063840" y="3622680"/>
            <a:chExt cx="753120" cy="934920"/>
          </a:xfrm>
        </p:grpSpPr>
        <p:grpSp>
          <p:nvGrpSpPr>
            <p:cNvPr id="210" name=""/>
            <p:cNvGrpSpPr/>
            <p:nvPr/>
          </p:nvGrpSpPr>
          <p:grpSpPr>
            <a:xfrm>
              <a:off x="6063840" y="3622680"/>
              <a:ext cx="753120" cy="934920"/>
              <a:chOff x="6063840" y="3622680"/>
              <a:chExt cx="753120" cy="934920"/>
            </a:xfrm>
          </p:grpSpPr>
          <p:pic>
            <p:nvPicPr>
              <p:cNvPr id="211" name="" descr=""/>
              <p:cNvPicPr/>
              <p:nvPr/>
            </p:nvPicPr>
            <p:blipFill>
              <a:blip r:embed="rId13"/>
              <a:srcRect l="51433" t="4785" r="0" b="0"/>
              <a:stretch/>
            </p:blipFill>
            <p:spPr>
              <a:xfrm>
                <a:off x="6454800" y="3675240"/>
                <a:ext cx="297000" cy="88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6188760" y="3954600"/>
                <a:ext cx="37692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3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543360" y="374652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386400" y="363204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19600" y="3622680"/>
                <a:ext cx="273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63840" y="3747960"/>
                <a:ext cx="561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3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 rot="16200000">
              <a:off x="6306120" y="418140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38240" y="415764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396840" y="41227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rot="10800000">
              <a:off x="6415920" y="41731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46080" y="42465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5400000">
              <a:off x="6319080" y="416232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30240" y="410688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637320" y="3619440"/>
            <a:ext cx="312840" cy="480960"/>
            <a:chOff x="6637320" y="3619440"/>
            <a:chExt cx="312840" cy="480960"/>
          </a:xfrm>
        </p:grpSpPr>
        <p:sp>
          <p:nvSpPr>
            <p:cNvPr id="225" name=""/>
            <p:cNvSpPr/>
            <p:nvPr/>
          </p:nvSpPr>
          <p:spPr>
            <a:xfrm>
              <a:off x="6699240" y="38862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37320" y="38052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8600" y="376704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42000" y="369576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8600" y="361944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846840" y="3309840"/>
            <a:ext cx="303480" cy="466560"/>
            <a:chOff x="6846840" y="3309840"/>
            <a:chExt cx="303480" cy="466560"/>
          </a:xfrm>
        </p:grpSpPr>
        <p:sp>
          <p:nvSpPr>
            <p:cNvPr id="231" name=""/>
            <p:cNvSpPr/>
            <p:nvPr/>
          </p:nvSpPr>
          <p:spPr>
            <a:xfrm>
              <a:off x="6851520" y="350532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08760" y="343368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46840" y="337176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08760" y="330984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08760" y="3562200"/>
              <a:ext cx="241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3:08Z</dcterms:modified>
  <cp:revision>14</cp:revision>
  <dc:subject/>
  <dc:title>CHROMATIN</dc:title>
</cp:coreProperties>
</file>