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794F-17DB-4A80-B7AA-11181101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6F20-7B1B-43FB-A5C5-D6D2E0A0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8064-3745-47EE-BED7-885C8337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48EA-C3A1-4324-B2FD-BF0226A1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0DA3-8F26-4584-AE75-DEEB58EF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9A57-DDA8-4D6B-B7ED-6DD457A0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F1C0-2EFA-46D5-BC0B-BC32EE1D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5539-6282-4DB1-9EF4-F5596ECF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D2C7E-13E6-45D8-A017-674A607E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7531-B98B-4904-B201-09EC57AA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3419-0024-4224-AD90-4C523452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3062-2193-4124-AF2A-D5F30DC6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EA5D-FCD4-4F82-BE52-2AF5B0C86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" y="235080"/>
            <a:ext cx="96267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cetylation of conserved lys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3345" t="0" r="13841" b="0"/>
          <a:stretch/>
        </p:blipFill>
        <p:spPr>
          <a:xfrm>
            <a:off x="7866000" y="3662280"/>
            <a:ext cx="1514520" cy="282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5120" y="1982880"/>
            <a:ext cx="1334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4 N-termin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5120" y="3009960"/>
            <a:ext cx="1334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 N-termin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29960" y="1517760"/>
            <a:ext cx="5122440" cy="897840"/>
            <a:chOff x="2829960" y="1517760"/>
            <a:chExt cx="5122440" cy="897840"/>
          </a:xfrm>
        </p:grpSpPr>
        <p:sp>
          <p:nvSpPr>
            <p:cNvPr id="48" name=""/>
            <p:cNvSpPr/>
            <p:nvPr/>
          </p:nvSpPr>
          <p:spPr>
            <a:xfrm>
              <a:off x="2829960" y="1947960"/>
              <a:ext cx="5122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-S-G-R-G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G-G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G-L-G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G-G-A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R-H-R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V-L-R-D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82280" y="210996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95200" y="210996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11160" y="210996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92000" y="209700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73200" y="210348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60520" y="210996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82720" y="210348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66680" y="210348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57480" y="210348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94040" y="210996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6652080" y="1708200"/>
              <a:ext cx="690840" cy="303120"/>
              <a:chOff x="6652080" y="1708200"/>
              <a:chExt cx="690840" cy="303120"/>
            </a:xfrm>
          </p:grpSpPr>
          <p:sp>
            <p:nvSpPr>
              <p:cNvPr id="60" name=""/>
              <p:cNvSpPr/>
              <p:nvPr/>
            </p:nvSpPr>
            <p:spPr>
              <a:xfrm>
                <a:off x="7048440" y="1716120"/>
                <a:ext cx="228600" cy="209520"/>
              </a:xfrm>
              <a:prstGeom prst="ellips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686640" y="1725480"/>
                <a:ext cx="228600" cy="20952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652080" y="1708200"/>
                <a:ext cx="690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 or 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905520" y="1906560"/>
                <a:ext cx="7632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7032600" y="1916280"/>
                <a:ext cx="6336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6048000" y="1755720"/>
              <a:ext cx="380160" cy="275040"/>
              <a:chOff x="6048000" y="1755720"/>
              <a:chExt cx="380160" cy="275040"/>
            </a:xfrm>
          </p:grpSpPr>
          <p:sp>
            <p:nvSpPr>
              <p:cNvPr id="66" name=""/>
              <p:cNvSpPr/>
              <p:nvPr/>
            </p:nvSpPr>
            <p:spPr>
              <a:xfrm>
                <a:off x="6105600" y="1757520"/>
                <a:ext cx="260280" cy="260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48000" y="1755720"/>
                <a:ext cx="380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254200" y="1755720"/>
              <a:ext cx="380160" cy="275040"/>
              <a:chOff x="5254200" y="1755720"/>
              <a:chExt cx="380160" cy="275040"/>
            </a:xfrm>
          </p:grpSpPr>
          <p:sp>
            <p:nvSpPr>
              <p:cNvPr id="69" name=""/>
              <p:cNvSpPr/>
              <p:nvPr/>
            </p:nvSpPr>
            <p:spPr>
              <a:xfrm>
                <a:off x="5311800" y="1757520"/>
                <a:ext cx="260280" cy="260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54200" y="1755720"/>
                <a:ext cx="380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473360" y="1758960"/>
              <a:ext cx="380160" cy="275040"/>
              <a:chOff x="4473360" y="1758960"/>
              <a:chExt cx="380160" cy="275040"/>
            </a:xfrm>
          </p:grpSpPr>
          <p:sp>
            <p:nvSpPr>
              <p:cNvPr id="72" name=""/>
              <p:cNvSpPr/>
              <p:nvPr/>
            </p:nvSpPr>
            <p:spPr>
              <a:xfrm>
                <a:off x="4530600" y="1760400"/>
                <a:ext cx="260640" cy="260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473360" y="1758960"/>
                <a:ext cx="380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860280" y="1755720"/>
              <a:ext cx="380160" cy="275040"/>
              <a:chOff x="3860280" y="1755720"/>
              <a:chExt cx="380160" cy="275040"/>
            </a:xfrm>
          </p:grpSpPr>
          <p:sp>
            <p:nvSpPr>
              <p:cNvPr id="75" name=""/>
              <p:cNvSpPr/>
              <p:nvPr/>
            </p:nvSpPr>
            <p:spPr>
              <a:xfrm>
                <a:off x="3917880" y="1757520"/>
                <a:ext cx="260280" cy="260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60280" y="1755720"/>
                <a:ext cx="380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910320" y="1517760"/>
              <a:ext cx="26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13680" y="1523880"/>
              <a:ext cx="26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65720" y="1523880"/>
              <a:ext cx="352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46560" y="1517760"/>
              <a:ext cx="352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Black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02200" y="1517760"/>
              <a:ext cx="352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Black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251080" y="2532240"/>
            <a:ext cx="5861520" cy="911880"/>
            <a:chOff x="2251080" y="2532240"/>
            <a:chExt cx="5861520" cy="911880"/>
          </a:xfrm>
        </p:grpSpPr>
        <p:sp>
          <p:nvSpPr>
            <p:cNvPr id="83" name=""/>
            <p:cNvSpPr/>
            <p:nvPr/>
          </p:nvSpPr>
          <p:spPr>
            <a:xfrm>
              <a:off x="2251080" y="2975040"/>
              <a:ext cx="5861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-R-T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Q-T-A-R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S-T-G-G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A-P-R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Q-L-A-T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A-A-R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S-A-P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33560" y="2762280"/>
              <a:ext cx="260640" cy="2602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75960" y="2760840"/>
              <a:ext cx="396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86480" y="2706840"/>
              <a:ext cx="228600" cy="2095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24680" y="2716200"/>
              <a:ext cx="228600" cy="209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90480" y="2698920"/>
              <a:ext cx="690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 or 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43920" y="2897280"/>
              <a:ext cx="7596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7370280" y="2906640"/>
              <a:ext cx="6372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722400" y="2786040"/>
              <a:ext cx="380160" cy="275040"/>
              <a:chOff x="3722400" y="2786040"/>
              <a:chExt cx="380160" cy="275040"/>
            </a:xfrm>
          </p:grpSpPr>
          <p:sp>
            <p:nvSpPr>
              <p:cNvPr id="92" name=""/>
              <p:cNvSpPr/>
              <p:nvPr/>
            </p:nvSpPr>
            <p:spPr>
              <a:xfrm>
                <a:off x="3780000" y="2787480"/>
                <a:ext cx="260280" cy="260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22400" y="2786040"/>
                <a:ext cx="380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696920" y="2786040"/>
              <a:ext cx="380160" cy="275040"/>
              <a:chOff x="4696920" y="2786040"/>
              <a:chExt cx="380160" cy="275040"/>
            </a:xfrm>
          </p:grpSpPr>
          <p:sp>
            <p:nvSpPr>
              <p:cNvPr id="95" name=""/>
              <p:cNvSpPr/>
              <p:nvPr/>
            </p:nvSpPr>
            <p:spPr>
              <a:xfrm>
                <a:off x="4754520" y="2787480"/>
                <a:ext cx="260280" cy="260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96920" y="2786040"/>
                <a:ext cx="380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455800" y="2786040"/>
              <a:ext cx="380160" cy="275040"/>
              <a:chOff x="5455800" y="2786040"/>
              <a:chExt cx="380160" cy="275040"/>
            </a:xfrm>
          </p:grpSpPr>
          <p:sp>
            <p:nvSpPr>
              <p:cNvPr id="98" name=""/>
              <p:cNvSpPr/>
              <p:nvPr/>
            </p:nvSpPr>
            <p:spPr>
              <a:xfrm>
                <a:off x="5513400" y="2787480"/>
                <a:ext cx="260280" cy="260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55800" y="2786040"/>
                <a:ext cx="380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99000" y="2786040"/>
              <a:ext cx="380160" cy="275040"/>
              <a:chOff x="6399000" y="2786040"/>
              <a:chExt cx="380160" cy="275040"/>
            </a:xfrm>
          </p:grpSpPr>
          <p:sp>
            <p:nvSpPr>
              <p:cNvPr id="101" name=""/>
              <p:cNvSpPr/>
              <p:nvPr/>
            </p:nvSpPr>
            <p:spPr>
              <a:xfrm>
                <a:off x="6456240" y="2787480"/>
                <a:ext cx="260640" cy="260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99000" y="2786040"/>
                <a:ext cx="380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812320" y="313848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40800" y="313524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67960" y="313524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74240" y="313524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42640" y="313524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11240" y="313200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35000" y="312588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06480" y="313524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93720" y="313200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21320" y="2535120"/>
              <a:ext cx="26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73880" y="2567160"/>
              <a:ext cx="26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97280" y="2570040"/>
              <a:ext cx="352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Black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68760" y="2560680"/>
              <a:ext cx="352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Black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24560" y="2567160"/>
              <a:ext cx="352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Black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48160" y="2532240"/>
              <a:ext cx="352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Black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15800" y="1035000"/>
            <a:ext cx="9394920" cy="3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-termini of histones H4 and H3, and their acetylation patterns, a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n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60680" y="4017960"/>
            <a:ext cx="86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y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2840" y="5464080"/>
            <a:ext cx="20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-Acetyl-Ly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79760" y="4638600"/>
            <a:ext cx="326880" cy="638280"/>
          </a:xfrm>
          <a:prstGeom prst="downArrow">
            <a:avLst>
              <a:gd name="adj1" fmla="val 50000"/>
              <a:gd name="adj2" fmla="val 9764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5120" y="4678200"/>
            <a:ext cx="327240" cy="638280"/>
          </a:xfrm>
          <a:prstGeom prst="upArrow">
            <a:avLst>
              <a:gd name="adj1" fmla="val 50000"/>
              <a:gd name="adj2" fmla="val 9751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0600" y="4687920"/>
            <a:ext cx="1704600" cy="51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T (Hi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etyl-Transfer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1320" y="4778280"/>
            <a:ext cx="1079640" cy="518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acetyl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7600" y="4802040"/>
            <a:ext cx="173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versible 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96480" y="3632040"/>
            <a:ext cx="3577680" cy="1068480"/>
            <a:chOff x="2796480" y="3632040"/>
            <a:chExt cx="3577680" cy="1068480"/>
          </a:xfrm>
        </p:grpSpPr>
        <p:grpSp>
          <p:nvGrpSpPr>
            <p:cNvPr id="127" name=""/>
            <p:cNvGrpSpPr/>
            <p:nvPr/>
          </p:nvGrpSpPr>
          <p:grpSpPr>
            <a:xfrm>
              <a:off x="2796480" y="3632040"/>
              <a:ext cx="2231280" cy="984240"/>
              <a:chOff x="2796480" y="3632040"/>
              <a:chExt cx="2231280" cy="984240"/>
            </a:xfrm>
          </p:grpSpPr>
          <p:sp>
            <p:nvSpPr>
              <p:cNvPr id="128" name=""/>
              <p:cNvSpPr/>
              <p:nvPr/>
            </p:nvSpPr>
            <p:spPr>
              <a:xfrm rot="5400000">
                <a:off x="3556080" y="3805200"/>
                <a:ext cx="17136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76720" y="3632040"/>
                <a:ext cx="61920" cy="1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00120" y="4172040"/>
                <a:ext cx="9684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84640" y="3873600"/>
                <a:ext cx="9360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97360" y="3743280"/>
                <a:ext cx="123840" cy="133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28920" y="3989520"/>
                <a:ext cx="200160" cy="217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17960" y="3686040"/>
                <a:ext cx="241200" cy="26676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3052440" y="44053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038400" y="434988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43160" y="4262400"/>
                <a:ext cx="195480" cy="217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08360" y="4227480"/>
                <a:ext cx="269640" cy="3002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95720" y="4037040"/>
                <a:ext cx="120600" cy="131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4443120" y="4219560"/>
                <a:ext cx="26172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078440" y="3981600"/>
                <a:ext cx="196560" cy="217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10080" y="3995640"/>
                <a:ext cx="198360" cy="219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40120" y="4262400"/>
                <a:ext cx="195480" cy="217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08480" y="4246560"/>
                <a:ext cx="195120" cy="219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49760" y="4098960"/>
                <a:ext cx="238320" cy="26496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99160" y="3976560"/>
                <a:ext cx="120600" cy="131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440160" y="4103640"/>
                <a:ext cx="209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68840" y="4159080"/>
                <a:ext cx="123840" cy="16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990960" y="4143240"/>
                <a:ext cx="139680" cy="15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4212720" y="4143240"/>
                <a:ext cx="147960" cy="15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94160" y="4471920"/>
                <a:ext cx="123840" cy="133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309920" y="4468680"/>
                <a:ext cx="122400" cy="133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56200" y="3848040"/>
                <a:ext cx="122040" cy="130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81320" y="3854520"/>
                <a:ext cx="120960" cy="12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43360" y="4484520"/>
                <a:ext cx="123840" cy="131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09960" y="4484520"/>
                <a:ext cx="127080" cy="131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99000" y="3863880"/>
                <a:ext cx="120600" cy="133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67040" y="3929040"/>
                <a:ext cx="123840" cy="130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3289320" y="4389120"/>
                <a:ext cx="7632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796480" y="4237200"/>
                <a:ext cx="323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92400" y="36640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98520" y="421812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7520" y="39466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65440" y="395460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95480" y="42242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032000" y="394020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57720" y="42116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62640" y="4062240"/>
                <a:ext cx="432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17400" y="4151160"/>
                <a:ext cx="297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53560" y="4172040"/>
                <a:ext cx="28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8160" y="3960720"/>
                <a:ext cx="285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050360" y="4151160"/>
                <a:ext cx="273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85800" y="3979800"/>
                <a:ext cx="262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06800" y="4186080"/>
                <a:ext cx="120960" cy="131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84760" y="4370400"/>
                <a:ext cx="120600" cy="131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140800" y="3767040"/>
              <a:ext cx="1233360" cy="933480"/>
              <a:chOff x="5140800" y="3767040"/>
              <a:chExt cx="1233360" cy="9334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253840" y="3767040"/>
                <a:ext cx="1120320" cy="933480"/>
                <a:chOff x="5253840" y="3767040"/>
                <a:chExt cx="1120320" cy="93348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5450040" y="3767040"/>
                  <a:ext cx="676080" cy="743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411880" y="4000680"/>
                  <a:ext cx="671400" cy="69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519880" y="4064040"/>
                  <a:ext cx="349200" cy="3603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070320" y="4079880"/>
                  <a:ext cx="303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5768280" y="4386240"/>
                  <a:ext cx="323640" cy="312120"/>
                  <a:chOff x="5768280" y="4386240"/>
                  <a:chExt cx="323640" cy="31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5792760" y="4386240"/>
                    <a:ext cx="270000" cy="3002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768280" y="4392720"/>
                    <a:ext cx="3236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274720" y="4378320"/>
                  <a:ext cx="323640" cy="312120"/>
                  <a:chOff x="5274720" y="4378320"/>
                  <a:chExt cx="323640" cy="3121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5299200" y="4378320"/>
                    <a:ext cx="269640" cy="2998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274720" y="4384800"/>
                    <a:ext cx="3236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253840" y="3854520"/>
                  <a:ext cx="323640" cy="311760"/>
                  <a:chOff x="5253840" y="3854520"/>
                  <a:chExt cx="323640" cy="3117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5278320" y="3854520"/>
                    <a:ext cx="270000" cy="2998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5253840" y="3860640"/>
                    <a:ext cx="3236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5544360" y="4065480"/>
                  <a:ext cx="320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5796720" y="3809880"/>
                  <a:ext cx="323640" cy="312120"/>
                  <a:chOff x="5796720" y="3809880"/>
                  <a:chExt cx="323640" cy="3121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5821200" y="3809880"/>
                    <a:ext cx="270000" cy="3002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5796720" y="3816360"/>
                    <a:ext cx="3236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5" name=""/>
              <p:cNvSpPr/>
              <p:nvPr/>
            </p:nvSpPr>
            <p:spPr>
              <a:xfrm>
                <a:off x="5140800" y="4164120"/>
                <a:ext cx="342000" cy="20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690" y="37"/>
                    </a:moveTo>
                    <a:arcTo wR="10800" hR="10800" stAng="-5116404" swAng="100947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690" y="37"/>
                    </a:moveTo>
                    <a:arcTo wR="10800" hR="10800" stAng="-5116404" swAng="1009471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37640" y="4040280"/>
                <a:ext cx="27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6257880" y="3730680"/>
            <a:ext cx="1427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8360" y="5522760"/>
            <a:ext cx="1104120" cy="702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785320" y="5230800"/>
            <a:ext cx="2796480" cy="1180440"/>
            <a:chOff x="2785320" y="5230800"/>
            <a:chExt cx="2796480" cy="1180440"/>
          </a:xfrm>
        </p:grpSpPr>
        <p:sp>
          <p:nvSpPr>
            <p:cNvPr id="200" name=""/>
            <p:cNvSpPr/>
            <p:nvPr/>
          </p:nvSpPr>
          <p:spPr>
            <a:xfrm flipV="1">
              <a:off x="5172120" y="5727600"/>
              <a:ext cx="1299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92760" y="5727600"/>
              <a:ext cx="2030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300120" y="5230800"/>
              <a:ext cx="6660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327480" y="5749920"/>
              <a:ext cx="102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09840" y="5462640"/>
              <a:ext cx="1000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00240" y="5338800"/>
              <a:ext cx="133560" cy="127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55920" y="5575320"/>
              <a:ext cx="216000" cy="208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30560" y="5283360"/>
              <a:ext cx="258840" cy="2556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797200" y="5803920"/>
              <a:ext cx="571320" cy="289080"/>
              <a:chOff x="2797200" y="5803920"/>
              <a:chExt cx="571320" cy="28908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3060360" y="5975280"/>
                <a:ext cx="12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3044880" y="5921280"/>
                <a:ext cx="12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57560" y="5837400"/>
                <a:ext cx="210960" cy="209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97200" y="5803920"/>
                <a:ext cx="290520" cy="2890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3213000" y="5621400"/>
              <a:ext cx="13032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554000" y="5738760"/>
              <a:ext cx="18900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62320" y="5567400"/>
              <a:ext cx="211320" cy="208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59040" y="5581800"/>
              <a:ext cx="212760" cy="209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05280" y="5837400"/>
              <a:ext cx="210960" cy="209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08560" y="5823000"/>
              <a:ext cx="210960" cy="209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87920" y="5546880"/>
              <a:ext cx="257040" cy="2556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49840" y="5408640"/>
              <a:ext cx="12996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476520" y="568476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28960" y="5738760"/>
              <a:ext cx="13356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068360" y="5722920"/>
              <a:ext cx="1494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306680" y="5722920"/>
              <a:ext cx="1587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00720" y="6039000"/>
              <a:ext cx="134640" cy="128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0000" y="6035760"/>
              <a:ext cx="133560" cy="128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5120" y="5438880"/>
              <a:ext cx="13176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65560" y="5445000"/>
              <a:ext cx="130320" cy="125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9960" y="6051600"/>
              <a:ext cx="133560" cy="127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81600" y="6051600"/>
              <a:ext cx="136440" cy="127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54440" y="5454720"/>
              <a:ext cx="130320" cy="127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27520" y="5516640"/>
              <a:ext cx="13320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3314520" y="5959440"/>
              <a:ext cx="8244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85320" y="581328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03560" y="52610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09680" y="57942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55339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11520" y="5540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59200" y="58006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3000" y="5527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54560" y="57880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62360" y="55306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85880" y="5565600"/>
              <a:ext cx="262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4967280" y="5821200"/>
              <a:ext cx="289080" cy="571680"/>
              <a:chOff x="4967280" y="5821200"/>
              <a:chExt cx="289080" cy="571680"/>
            </a:xfrm>
          </p:grpSpPr>
          <p:sp>
            <p:nvSpPr>
              <p:cNvPr id="245" name=""/>
              <p:cNvSpPr/>
              <p:nvPr/>
            </p:nvSpPr>
            <p:spPr>
              <a:xfrm>
                <a:off x="5138640" y="6006960"/>
                <a:ext cx="0" cy="12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84640" y="6019920"/>
                <a:ext cx="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00760" y="5821200"/>
                <a:ext cx="209520" cy="211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67280" y="6102360"/>
                <a:ext cx="289080" cy="29052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4950720" y="610560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57560" y="57880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56360" y="5556240"/>
              <a:ext cx="210960" cy="209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08480" y="55180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19640" y="5433840"/>
              <a:ext cx="130320" cy="125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9800" y="5465880"/>
              <a:ext cx="12996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51480" y="5688000"/>
              <a:ext cx="13032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880560" y="4351320"/>
            <a:ext cx="114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cetyl-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37840" y="5172120"/>
            <a:ext cx="55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56760" y="4506840"/>
            <a:ext cx="1506600" cy="82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95" y="2"/>
                </a:moveTo>
                <a:arcTo wR="10800" hR="10800" stAng="-5465197" swAng="11185508"/>
                <a:lnTo>
                  <a:pt x="10800" y="10800"/>
                </a:lnTo>
                <a:close/>
              </a:path>
              <a:path fill="none" w="21600" h="21600">
                <a:moveTo>
                  <a:pt x="10595" y="2"/>
                </a:moveTo>
                <a:arcTo wR="10800" hR="10800" stAng="-5465197" swAng="1118550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539920" y="5338800"/>
            <a:ext cx="287280" cy="383400"/>
            <a:chOff x="8539920" y="5338800"/>
            <a:chExt cx="287280" cy="383400"/>
          </a:xfrm>
        </p:grpSpPr>
        <p:grpSp>
          <p:nvGrpSpPr>
            <p:cNvPr id="260" name=""/>
            <p:cNvGrpSpPr/>
            <p:nvPr/>
          </p:nvGrpSpPr>
          <p:grpSpPr>
            <a:xfrm>
              <a:off x="8539920" y="5338800"/>
              <a:ext cx="287280" cy="275040"/>
              <a:chOff x="8539920" y="5338800"/>
              <a:chExt cx="287280" cy="275040"/>
            </a:xfrm>
          </p:grpSpPr>
          <p:sp>
            <p:nvSpPr>
              <p:cNvPr id="261" name=""/>
              <p:cNvSpPr/>
              <p:nvPr/>
            </p:nvSpPr>
            <p:spPr>
              <a:xfrm>
                <a:off x="8585280" y="5384880"/>
                <a:ext cx="191880" cy="2109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539920" y="533880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8555040" y="538632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893080" y="5143680"/>
            <a:ext cx="252000" cy="335880"/>
            <a:chOff x="8893080" y="5143680"/>
            <a:chExt cx="252000" cy="335880"/>
          </a:xfrm>
        </p:grpSpPr>
        <p:sp>
          <p:nvSpPr>
            <p:cNvPr id="265" name=""/>
            <p:cNvSpPr/>
            <p:nvPr/>
          </p:nvSpPr>
          <p:spPr>
            <a:xfrm>
              <a:off x="8975880" y="5268960"/>
              <a:ext cx="9972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93080" y="514368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064800" y="4957920"/>
            <a:ext cx="252000" cy="335880"/>
            <a:chOff x="9064800" y="4957920"/>
            <a:chExt cx="252000" cy="335880"/>
          </a:xfrm>
        </p:grpSpPr>
        <p:sp>
          <p:nvSpPr>
            <p:cNvPr id="268" name=""/>
            <p:cNvSpPr/>
            <p:nvPr/>
          </p:nvSpPr>
          <p:spPr>
            <a:xfrm>
              <a:off x="9147240" y="5083200"/>
              <a:ext cx="10008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64800" y="495792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8245440" y="5495760"/>
            <a:ext cx="252000" cy="335880"/>
            <a:chOff x="8245440" y="5495760"/>
            <a:chExt cx="252000" cy="335880"/>
          </a:xfrm>
        </p:grpSpPr>
        <p:sp>
          <p:nvSpPr>
            <p:cNvPr id="271" name=""/>
            <p:cNvSpPr/>
            <p:nvPr/>
          </p:nvSpPr>
          <p:spPr>
            <a:xfrm>
              <a:off x="8327880" y="5621400"/>
              <a:ext cx="100080" cy="102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45440" y="549576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012160" y="5681520"/>
            <a:ext cx="252000" cy="335880"/>
            <a:chOff x="8012160" y="5681520"/>
            <a:chExt cx="252000" cy="335880"/>
          </a:xfrm>
        </p:grpSpPr>
        <p:sp>
          <p:nvSpPr>
            <p:cNvPr id="274" name=""/>
            <p:cNvSpPr/>
            <p:nvPr/>
          </p:nvSpPr>
          <p:spPr>
            <a:xfrm>
              <a:off x="8094600" y="5807160"/>
              <a:ext cx="100080" cy="102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12160" y="568152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8988480" y="4729320"/>
            <a:ext cx="252000" cy="335880"/>
            <a:chOff x="8988480" y="4729320"/>
            <a:chExt cx="252000" cy="335880"/>
          </a:xfrm>
        </p:grpSpPr>
        <p:sp>
          <p:nvSpPr>
            <p:cNvPr id="277" name=""/>
            <p:cNvSpPr/>
            <p:nvPr/>
          </p:nvSpPr>
          <p:spPr>
            <a:xfrm>
              <a:off x="9070920" y="4854600"/>
              <a:ext cx="10008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988480" y="472932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935840" y="4795920"/>
            <a:ext cx="252000" cy="335880"/>
            <a:chOff x="7935840" y="4795920"/>
            <a:chExt cx="252000" cy="335880"/>
          </a:xfrm>
        </p:grpSpPr>
        <p:sp>
          <p:nvSpPr>
            <p:cNvPr id="280" name=""/>
            <p:cNvSpPr/>
            <p:nvPr/>
          </p:nvSpPr>
          <p:spPr>
            <a:xfrm>
              <a:off x="8018640" y="4921200"/>
              <a:ext cx="9972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35840" y="479592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8097840" y="4586400"/>
            <a:ext cx="252000" cy="335880"/>
            <a:chOff x="8097840" y="4586400"/>
            <a:chExt cx="252000" cy="335880"/>
          </a:xfrm>
        </p:grpSpPr>
        <p:sp>
          <p:nvSpPr>
            <p:cNvPr id="283" name=""/>
            <p:cNvSpPr/>
            <p:nvPr/>
          </p:nvSpPr>
          <p:spPr>
            <a:xfrm>
              <a:off x="8180280" y="4711680"/>
              <a:ext cx="10008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97840" y="458640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388360" y="4395960"/>
            <a:ext cx="252000" cy="335880"/>
            <a:chOff x="8388360" y="4395960"/>
            <a:chExt cx="252000" cy="335880"/>
          </a:xfrm>
        </p:grpSpPr>
        <p:sp>
          <p:nvSpPr>
            <p:cNvPr id="286" name=""/>
            <p:cNvSpPr/>
            <p:nvPr/>
          </p:nvSpPr>
          <p:spPr>
            <a:xfrm>
              <a:off x="8470800" y="4521240"/>
              <a:ext cx="10008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388360" y="439596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8755200" y="4224240"/>
            <a:ext cx="252000" cy="335880"/>
            <a:chOff x="8755200" y="4224240"/>
            <a:chExt cx="252000" cy="335880"/>
          </a:xfrm>
        </p:grpSpPr>
        <p:sp>
          <p:nvSpPr>
            <p:cNvPr id="289" name=""/>
            <p:cNvSpPr/>
            <p:nvPr/>
          </p:nvSpPr>
          <p:spPr>
            <a:xfrm>
              <a:off x="8837640" y="4349880"/>
              <a:ext cx="100080" cy="102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755200" y="422424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955000" y="4081320"/>
            <a:ext cx="252000" cy="335880"/>
            <a:chOff x="8955000" y="4081320"/>
            <a:chExt cx="252000" cy="335880"/>
          </a:xfrm>
        </p:grpSpPr>
        <p:sp>
          <p:nvSpPr>
            <p:cNvPr id="292" name=""/>
            <p:cNvSpPr/>
            <p:nvPr/>
          </p:nvSpPr>
          <p:spPr>
            <a:xfrm>
              <a:off x="9037800" y="4206960"/>
              <a:ext cx="99720" cy="102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955000" y="408132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8021520" y="3929040"/>
            <a:ext cx="252000" cy="335880"/>
            <a:chOff x="8021520" y="3929040"/>
            <a:chExt cx="252000" cy="335880"/>
          </a:xfrm>
        </p:grpSpPr>
        <p:sp>
          <p:nvSpPr>
            <p:cNvPr id="295" name=""/>
            <p:cNvSpPr/>
            <p:nvPr/>
          </p:nvSpPr>
          <p:spPr>
            <a:xfrm>
              <a:off x="8104320" y="4054320"/>
              <a:ext cx="9972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21520" y="392904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236080" y="3753000"/>
            <a:ext cx="252000" cy="335880"/>
            <a:chOff x="8236080" y="3753000"/>
            <a:chExt cx="252000" cy="335880"/>
          </a:xfrm>
        </p:grpSpPr>
        <p:sp>
          <p:nvSpPr>
            <p:cNvPr id="298" name=""/>
            <p:cNvSpPr/>
            <p:nvPr/>
          </p:nvSpPr>
          <p:spPr>
            <a:xfrm>
              <a:off x="8318520" y="3878280"/>
              <a:ext cx="10008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36080" y="375300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8550360" y="3595680"/>
            <a:ext cx="252000" cy="335880"/>
            <a:chOff x="8550360" y="3595680"/>
            <a:chExt cx="252000" cy="335880"/>
          </a:xfrm>
        </p:grpSpPr>
        <p:sp>
          <p:nvSpPr>
            <p:cNvPr id="301" name=""/>
            <p:cNvSpPr/>
            <p:nvPr/>
          </p:nvSpPr>
          <p:spPr>
            <a:xfrm>
              <a:off x="8632800" y="3720960"/>
              <a:ext cx="10008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50360" y="359568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8960040" y="5762520"/>
            <a:ext cx="252000" cy="335880"/>
            <a:chOff x="8960040" y="5762520"/>
            <a:chExt cx="252000" cy="335880"/>
          </a:xfrm>
        </p:grpSpPr>
        <p:sp>
          <p:nvSpPr>
            <p:cNvPr id="304" name=""/>
            <p:cNvSpPr/>
            <p:nvPr/>
          </p:nvSpPr>
          <p:spPr>
            <a:xfrm>
              <a:off x="9042480" y="5888160"/>
              <a:ext cx="100080" cy="102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960040" y="576252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8726400" y="5919840"/>
            <a:ext cx="252000" cy="335880"/>
            <a:chOff x="8726400" y="5919840"/>
            <a:chExt cx="252000" cy="335880"/>
          </a:xfrm>
        </p:grpSpPr>
        <p:sp>
          <p:nvSpPr>
            <p:cNvPr id="307" name=""/>
            <p:cNvSpPr/>
            <p:nvPr/>
          </p:nvSpPr>
          <p:spPr>
            <a:xfrm>
              <a:off x="8809200" y="6045120"/>
              <a:ext cx="9972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726400" y="591984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402760" y="6086520"/>
            <a:ext cx="252000" cy="335880"/>
            <a:chOff x="8402760" y="6086520"/>
            <a:chExt cx="252000" cy="335880"/>
          </a:xfrm>
        </p:grpSpPr>
        <p:sp>
          <p:nvSpPr>
            <p:cNvPr id="310" name=""/>
            <p:cNvSpPr/>
            <p:nvPr/>
          </p:nvSpPr>
          <p:spPr>
            <a:xfrm>
              <a:off x="8485200" y="6211800"/>
              <a:ext cx="10008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02760" y="608652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102520" y="6253200"/>
            <a:ext cx="252000" cy="335880"/>
            <a:chOff x="8102520" y="6253200"/>
            <a:chExt cx="252000" cy="335880"/>
          </a:xfrm>
        </p:grpSpPr>
        <p:sp>
          <p:nvSpPr>
            <p:cNvPr id="313" name=""/>
            <p:cNvSpPr/>
            <p:nvPr/>
          </p:nvSpPr>
          <p:spPr>
            <a:xfrm>
              <a:off x="8185320" y="6378480"/>
              <a:ext cx="9972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02520" y="625320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9083880" y="5600880"/>
            <a:ext cx="252000" cy="335880"/>
            <a:chOff x="9083880" y="5600880"/>
            <a:chExt cx="252000" cy="335880"/>
          </a:xfrm>
        </p:grpSpPr>
        <p:sp>
          <p:nvSpPr>
            <p:cNvPr id="316" name=""/>
            <p:cNvSpPr/>
            <p:nvPr/>
          </p:nvSpPr>
          <p:spPr>
            <a:xfrm>
              <a:off x="9166320" y="5726160"/>
              <a:ext cx="10008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083880" y="560088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9059760" y="3890880"/>
            <a:ext cx="252000" cy="335880"/>
            <a:chOff x="9059760" y="3890880"/>
            <a:chExt cx="252000" cy="335880"/>
          </a:xfrm>
        </p:grpSpPr>
        <p:sp>
          <p:nvSpPr>
            <p:cNvPr id="319" name=""/>
            <p:cNvSpPr/>
            <p:nvPr/>
          </p:nvSpPr>
          <p:spPr>
            <a:xfrm>
              <a:off x="9142560" y="4016520"/>
              <a:ext cx="99720" cy="102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059760" y="389088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8026560" y="4995720"/>
            <a:ext cx="252000" cy="335880"/>
            <a:chOff x="8026560" y="4995720"/>
            <a:chExt cx="252000" cy="335880"/>
          </a:xfrm>
        </p:grpSpPr>
        <p:sp>
          <p:nvSpPr>
            <p:cNvPr id="322" name=""/>
            <p:cNvSpPr/>
            <p:nvPr/>
          </p:nvSpPr>
          <p:spPr>
            <a:xfrm>
              <a:off x="8109000" y="5121360"/>
              <a:ext cx="100080" cy="102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26560" y="499572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940880" y="5800680"/>
            <a:ext cx="252000" cy="335880"/>
            <a:chOff x="7940880" y="5800680"/>
            <a:chExt cx="252000" cy="335880"/>
          </a:xfrm>
        </p:grpSpPr>
        <p:sp>
          <p:nvSpPr>
            <p:cNvPr id="325" name=""/>
            <p:cNvSpPr/>
            <p:nvPr/>
          </p:nvSpPr>
          <p:spPr>
            <a:xfrm>
              <a:off x="8023320" y="5925960"/>
              <a:ext cx="100080" cy="103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40880" y="580068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1:36Z</cp:lastPrinted>
  <dcterms:modified xsi:type="dcterms:W3CDTF">1999-03-24T06:37:10Z</dcterms:modified>
  <cp:revision>14</cp:revision>
  <dc:subject/>
  <dc:title>CHROMATIN</dc:title>
</cp:coreProperties>
</file>