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7C86-5CF5-4DE3-89DC-B357DAD7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51FB-7879-4765-B102-083BDE22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0B65-0702-45C5-AD5A-88A7AE4E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A2E0-F37B-4CDB-B20E-FC65D2C5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41EE-8238-4D2C-9F7F-B77DE283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5196-B8D3-44FA-8FA9-90205391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1623-C2CF-431E-89BC-BA188CE0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F3E3-4103-49B1-A19C-0330BA7D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CDD2-BB5F-4F58-834B-6EF93D6C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0B29-6E0A-4EBF-B979-CC629E6D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9324-9C06-4149-80E1-C0223236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8342-3D8E-4138-AF75-7078922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91F6-FA8F-4375-909C-E5BB7753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04880" y="533520"/>
            <a:ext cx="26672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Chromat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1685880"/>
            <a:ext cx="6459480" cy="3737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69080" y="246240"/>
            <a:ext cx="3363840" cy="150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0" r="27504" b="0"/>
          <a:stretch/>
        </p:blipFill>
        <p:spPr>
          <a:xfrm>
            <a:off x="163440" y="233280"/>
            <a:ext cx="4218120" cy="151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70520" y="3952800"/>
            <a:ext cx="428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00480" y="443556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95720" y="360828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71800" y="289548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29160" y="2362320"/>
            <a:ext cx="428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4720" y="435780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9400" y="405288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81600" y="324000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97280" y="251460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59320" y="208116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172200" y="3809880"/>
            <a:ext cx="17136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59600" y="3533760"/>
            <a:ext cx="428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024360"/>
            <a:ext cx="428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26080" y="211932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29480" y="2590920"/>
            <a:ext cx="428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3722760"/>
            <a:ext cx="3430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43920" y="289548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853400" y="2220480"/>
            <a:ext cx="42876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313760" y="2320560"/>
            <a:ext cx="17136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048440" y="2932200"/>
            <a:ext cx="311040" cy="39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201080" y="3048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58040" y="3976560"/>
            <a:ext cx="34308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772320" y="3176280"/>
            <a:ext cx="8568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428880" y="3875040"/>
            <a:ext cx="42876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22960" y="1979640"/>
            <a:ext cx="428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95320" y="20685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53000" y="2590920"/>
            <a:ext cx="428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114800" y="3047760"/>
            <a:ext cx="257040" cy="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14920" y="373392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307040" y="4232160"/>
            <a:ext cx="34272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164200" y="3620880"/>
            <a:ext cx="428400" cy="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522240" y="4078440"/>
            <a:ext cx="25740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46520" y="406548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16400" y="3811680"/>
            <a:ext cx="8568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25720" y="320040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112560" y="3276720"/>
            <a:ext cx="17172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67200" y="2944800"/>
            <a:ext cx="257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9920" y="264168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66920" y="1836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742840" y="2437920"/>
            <a:ext cx="299880" cy="5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314680" y="4473720"/>
            <a:ext cx="5144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92840" y="2779560"/>
            <a:ext cx="25704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635000" y="222084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807080" y="3951000"/>
            <a:ext cx="2570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962520"/>
            <a:ext cx="857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20040" y="399240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400" y="4189320"/>
            <a:ext cx="2406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  charged N term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ind DNA on neigb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eoso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67800" y="4154400"/>
            <a:ext cx="2239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 acety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e hi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specially H3 and H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7680" y="2316240"/>
            <a:ext cx="2036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atin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43480" y="2163600"/>
            <a:ext cx="1091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ea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400" y="5256360"/>
            <a:ext cx="272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evel of histone 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6400" y="5272200"/>
            <a:ext cx="306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d level of histone 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280" y="5691240"/>
            <a:ext cx="279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gene tran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1360" y="5657760"/>
            <a:ext cx="341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 transcription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200" y="4197240"/>
            <a:ext cx="271440" cy="281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8680" y="5187960"/>
            <a:ext cx="384480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200" y="5187960"/>
            <a:ext cx="350208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220640" y="2703240"/>
            <a:ext cx="514440" cy="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29240" y="3200400"/>
            <a:ext cx="34272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81560" y="838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1560" y="1371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14920" y="1523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7:55Z</cp:lastPrinted>
  <dcterms:modified xsi:type="dcterms:W3CDTF">1999-03-24T06:30:48Z</dcterms:modified>
  <cp:revision>15</cp:revision>
  <dc:subject/>
  <dc:title>CHROMATIN</dc:title>
</cp:coreProperties>
</file>