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DC1B0-0800-4B61-9C49-FDAA303C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42990-4AE5-4614-BC16-93E43A28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0B383-F252-407E-A730-37C76042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BFB0-2DDC-4412-94BE-2F632055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74DB6-921E-4B81-8F8F-4D72DD3CA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688A-2BA0-4EED-AEB9-1D6F373B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034D-4A92-4E57-ADE2-1ECB1481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D5D24-9938-4765-9ABE-223D67A0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381-E95C-4F8C-9246-0CADD110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2809A-0E18-42C9-B6F7-73804F5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45BF-E475-4C3B-99C0-CFFAD97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0B71-4E0F-45BD-B5EA-754204C8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5B02-9678-4879-A324-F2FA4E526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15040" y="380520"/>
            <a:ext cx="44575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HISTON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ghly conserved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, basic prote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0" t="12597" r="0" b="0"/>
          <a:stretch/>
        </p:blipFill>
        <p:spPr>
          <a:xfrm>
            <a:off x="990720" y="4890960"/>
            <a:ext cx="8292960" cy="1333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rcRect l="12244" t="7247" r="0" b="0"/>
          <a:stretch/>
        </p:blipFill>
        <p:spPr>
          <a:xfrm>
            <a:off x="2057400" y="152280"/>
            <a:ext cx="3591000" cy="4689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67600" y="334800"/>
            <a:ext cx="51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81560" y="223992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81560" y="1325520"/>
            <a:ext cx="680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7600" y="3382920"/>
            <a:ext cx="51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7600" y="4221000"/>
            <a:ext cx="511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96000" y="2536920"/>
            <a:ext cx="55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724280" y="3222720"/>
            <a:ext cx="810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3920" y="4289400"/>
            <a:ext cx="1009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69680" y="2649600"/>
            <a:ext cx="3092400" cy="201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stone acety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reversible mod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lysines in the N-term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core hist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binding to D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abilization of chromat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5240" y="760320"/>
            <a:ext cx="1450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er hist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5600" y="2817720"/>
            <a:ext cx="143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e his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77560" y="4570560"/>
            <a:ext cx="3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64160" y="2216160"/>
            <a:ext cx="1187280" cy="2425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4:01Z</cp:lastPrinted>
  <dcterms:modified xsi:type="dcterms:W3CDTF">1999-03-24T05:39:01Z</dcterms:modified>
  <cp:revision>15</cp:revision>
  <dc:subject/>
  <dc:title>CHROMATIN</dc:title>
</cp:coreProperties>
</file>