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70D6-8D66-4B48-AE53-83BEBB8D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4CF4-D4E2-456D-85E2-DD8B5F7E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2EDA-2DB4-43C5-995E-A71666B2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FC1B-AB51-4DD5-B6C5-8BB5A925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4C1A-56C7-428F-A8F4-AFEB78EE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DC6B-5BB6-4102-86B1-ADD1D645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00B85-05D2-491A-8807-9F1C63F7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B3AD-0D5E-4AD6-AE28-7E1746AC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B088-3A6E-4805-BC69-6C12D6A6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CB844-4B74-4895-8771-27D6786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2C5C-46F7-42FD-8846-210F5B3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C1B2-8951-45E5-9314-B55E627A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4F84-3709-4DF7-BCB9-14E3697BE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NA%20loops%201152x1557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3100320" cy="4191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6560" y="4686480"/>
            <a:ext cx="8890200" cy="74916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1880" y="5459400"/>
            <a:ext cx="8899560" cy="72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120" y="380880"/>
            <a:ext cx="4597200" cy="4191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9200" y="761760"/>
            <a:ext cx="917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ompact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4419720"/>
          <a:ext cx="901548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90154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89240" y="4365720"/>
            <a:ext cx="116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b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0.3n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9800000">
            <a:off x="1157400" y="4117680"/>
            <a:ext cx="244440" cy="444600"/>
          </a:xfrm>
          <a:prstGeom prst="upArrow">
            <a:avLst>
              <a:gd name="adj1" fmla="val 50000"/>
              <a:gd name="adj2" fmla="val 9548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8960" y="174600"/>
            <a:ext cx="1027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,00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76240" y="41904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1960" y="205740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237636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2440" y="20606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46440" y="1790280"/>
            <a:ext cx="17136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80000" y="1666800"/>
            <a:ext cx="3427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3160" y="1517760"/>
            <a:ext cx="7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7360" y="6278400"/>
            <a:ext cx="2344680" cy="24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1960" y="6275520"/>
            <a:ext cx="235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ction of DNA by hi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10080" y="6283440"/>
            <a:ext cx="3786120" cy="275040"/>
            <a:chOff x="4510080" y="6283440"/>
            <a:chExt cx="3786120" cy="275040"/>
          </a:xfrm>
        </p:grpSpPr>
        <p:sp>
          <p:nvSpPr>
            <p:cNvPr id="63" name=""/>
            <p:cNvSpPr/>
            <p:nvPr/>
          </p:nvSpPr>
          <p:spPr>
            <a:xfrm>
              <a:off x="4521240" y="6284880"/>
              <a:ext cx="3720960" cy="2430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10080" y="6283440"/>
              <a:ext cx="378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action by chromosome scaffold / nuclear matr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4:01Z</cp:lastPrinted>
  <dcterms:modified xsi:type="dcterms:W3CDTF">1999-03-24T05:37:30Z</dcterms:modified>
  <cp:revision>15</cp:revision>
  <dc:subject/>
  <dc:title>CHROMATIN</dc:title>
</cp:coreProperties>
</file>