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C21F3-0479-4D64-ACD0-38F3AC1D1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6B09E-664C-4741-BEAB-EB5D8362D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66D06-1EF5-463F-BABC-3464B488B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4523E-A91A-493C-9740-49A99ED56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EC795-1C60-4C21-B76E-54FF7BD31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BFBFC-96EB-4B3E-9586-C5FCE6E05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47EC0-55B5-487A-96E4-73C4A694E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8713A-07D1-444B-AA61-9C51E37B3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649A0-9185-4646-AF67-F99CCA5BA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35097-AF3D-49CE-A5BC-A8996432A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ECE7E-143D-4421-98F2-DE429ACDB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1539A-D896-44A1-A176-4AEA666FF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572320" y="6477120"/>
            <a:ext cx="94284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9527760" y="6382800"/>
            <a:ext cx="42228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18764-A5E9-454D-A0C1-9BB99F189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247680" y="6259680"/>
            <a:ext cx="1390680" cy="4251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630360" y="6480000"/>
            <a:ext cx="550800" cy="2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8742240" y="5310000"/>
            <a:ext cx="282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1999, J.H.Waterborg, UMK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8320" y="380880"/>
            <a:ext cx="57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CHROMATI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79480" y="1392120"/>
            <a:ext cx="5254560" cy="478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780320" y="274680"/>
            <a:ext cx="1446120" cy="1401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585480" y="3863880"/>
            <a:ext cx="2743560" cy="216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romat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stone 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ucleoso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romatin fi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ne repre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stone acety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romatin transcri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ne expression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118560" y="2071800"/>
            <a:ext cx="3542400" cy="12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Jakob H. Waterb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hool of Biological Scie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Missouri-Kansas C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JH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-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5T20:57:39Z</dcterms:created>
  <dc:creator>Jakob H. Waterborg</dc:creator>
  <dc:description/>
  <dc:language>en-US</dc:language>
  <cp:lastModifiedBy>Jakob H. Waterborg</cp:lastModifiedBy>
  <cp:lastPrinted>1999-03-10T03:24:01Z</cp:lastPrinted>
  <dcterms:modified xsi:type="dcterms:W3CDTF">1999-03-24T05:36:36Z</dcterms:modified>
  <cp:revision>15</cp:revision>
  <dc:subject/>
  <dc:title>CHROMATIN</dc:title>
</cp:coreProperties>
</file>